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4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3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4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4.png"/><Relationship Id="rId6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7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7.png"/><Relationship Id="rId49" Type="http://schemas.openxmlformats.org/officeDocument/2006/relationships/image" Target="../media/image3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7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7.png"/><Relationship Id="rId50" Type="http://schemas.openxmlformats.org/officeDocument/2006/relationships/image" Target="../media/image3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7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7.png"/><Relationship Id="rId50" Type="http://schemas.openxmlformats.org/officeDocument/2006/relationships/image" Target="../media/image3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7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7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1.png"/><Relationship Id="rId51" Type="http://schemas.openxmlformats.org/officeDocument/2006/relationships/image" Target="../media/image4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1.png"/><Relationship Id="rId51" Type="http://schemas.openxmlformats.org/officeDocument/2006/relationships/image" Target="../media/image4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3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3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138320" y="833400"/>
            <a:ext cx="2523960" cy="1228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LOG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728880" y="2967120"/>
            <a:ext cx="3971880" cy="923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alcolatori Elettron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329080" y="5405400"/>
            <a:ext cx="3057480" cy="69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artolomeo Baj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61675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5253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5710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6167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1880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4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 A,(H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685332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e per LD B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 A,(H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5253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5710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61675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6167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6777000" y="223920"/>
            <a:ext cx="214308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carico HL invece di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ll’ADDRESS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 A,(H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5253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5710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61675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6167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 txBox="1"/>
          <p:nvPr/>
        </p:nvSpPr>
        <p:spPr>
          <a:xfrm>
            <a:off x="685332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ico conten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i (HL) in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 A,(H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2560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47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3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52531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5710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 txBox="1"/>
          <p:nvPr/>
        </p:nvSpPr>
        <p:spPr>
          <a:xfrm>
            <a:off x="61675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 txBox="1"/>
          <p:nvPr/>
        </p:nvSpPr>
        <p:spPr>
          <a:xfrm>
            <a:off x="6167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 txBox="1"/>
          <p:nvPr/>
        </p:nvSpPr>
        <p:spPr>
          <a:xfrm>
            <a:off x="6777000" y="223920"/>
            <a:ext cx="206676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 attende, m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 F. seg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 A,(H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8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2789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3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2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57103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61675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5253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 txBox="1"/>
          <p:nvPr/>
        </p:nvSpPr>
        <p:spPr>
          <a:xfrm>
            <a:off x="6167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 txBox="1"/>
          <p:nvPr/>
        </p:nvSpPr>
        <p:spPr>
          <a:xfrm>
            <a:off x="685332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T5 termina A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incide con M1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 txBox="1"/>
          <p:nvPr/>
        </p:nvSpPr>
        <p:spPr>
          <a:xfrm>
            <a:off x="12906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 txBox="1"/>
          <p:nvPr/>
        </p:nvSpPr>
        <p:spPr>
          <a:xfrm>
            <a:off x="17478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357660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 txBox="1"/>
          <p:nvPr/>
        </p:nvSpPr>
        <p:spPr>
          <a:xfrm>
            <a:off x="31194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 txBox="1"/>
          <p:nvPr/>
        </p:nvSpPr>
        <p:spPr>
          <a:xfrm>
            <a:off x="35766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 txBox="1"/>
          <p:nvPr/>
        </p:nvSpPr>
        <p:spPr>
          <a:xfrm>
            <a:off x="403380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 txBox="1"/>
          <p:nvPr/>
        </p:nvSpPr>
        <p:spPr>
          <a:xfrm>
            <a:off x="129060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 txBox="1"/>
          <p:nvPr/>
        </p:nvSpPr>
        <p:spPr>
          <a:xfrm>
            <a:off x="44910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 txBox="1"/>
          <p:nvPr/>
        </p:nvSpPr>
        <p:spPr>
          <a:xfrm>
            <a:off x="5405400" y="5284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 txBox="1"/>
          <p:nvPr/>
        </p:nvSpPr>
        <p:spPr>
          <a:xfrm>
            <a:off x="58626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 txBox="1"/>
          <p:nvPr/>
        </p:nvSpPr>
        <p:spPr>
          <a:xfrm>
            <a:off x="49482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 txBox="1"/>
          <p:nvPr/>
        </p:nvSpPr>
        <p:spPr>
          <a:xfrm>
            <a:off x="63198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 txBox="1"/>
          <p:nvPr/>
        </p:nvSpPr>
        <p:spPr>
          <a:xfrm>
            <a:off x="266220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 txBox="1"/>
          <p:nvPr/>
        </p:nvSpPr>
        <p:spPr>
          <a:xfrm>
            <a:off x="586260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 txBox="1"/>
          <p:nvPr/>
        </p:nvSpPr>
        <p:spPr>
          <a:xfrm>
            <a:off x="631980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 txBox="1"/>
          <p:nvPr/>
        </p:nvSpPr>
        <p:spPr>
          <a:xfrm>
            <a:off x="677700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 txBox="1"/>
          <p:nvPr/>
        </p:nvSpPr>
        <p:spPr>
          <a:xfrm>
            <a:off x="6777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H="1">
            <a:off x="5029200" y="99072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 txBox="1"/>
          <p:nvPr/>
        </p:nvSpPr>
        <p:spPr>
          <a:xfrm>
            <a:off x="147600" y="223920"/>
            <a:ext cx="10000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JP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 txBox="1"/>
          <p:nvPr/>
        </p:nvSpPr>
        <p:spPr>
          <a:xfrm>
            <a:off x="7386480" y="223920"/>
            <a:ext cx="15336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W e Z s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gistri om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 txBox="1"/>
          <p:nvPr/>
        </p:nvSpPr>
        <p:spPr>
          <a:xfrm>
            <a:off x="147600" y="223920"/>
            <a:ext cx="9237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JP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1214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 txBox="1"/>
          <p:nvPr/>
        </p:nvSpPr>
        <p:spPr>
          <a:xfrm>
            <a:off x="350028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 txBox="1"/>
          <p:nvPr/>
        </p:nvSpPr>
        <p:spPr>
          <a:xfrm>
            <a:off x="12142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4414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 txBox="1"/>
          <p:nvPr/>
        </p:nvSpPr>
        <p:spPr>
          <a:xfrm>
            <a:off x="25858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5029200" y="990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condo 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 txBox="1"/>
          <p:nvPr/>
        </p:nvSpPr>
        <p:spPr>
          <a:xfrm>
            <a:off x="1214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350028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 txBox="1"/>
          <p:nvPr/>
        </p:nvSpPr>
        <p:spPr>
          <a:xfrm>
            <a:off x="12142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 txBox="1"/>
          <p:nvPr/>
        </p:nvSpPr>
        <p:spPr>
          <a:xfrm>
            <a:off x="4414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 txBox="1"/>
          <p:nvPr/>
        </p:nvSpPr>
        <p:spPr>
          <a:xfrm>
            <a:off x="25858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 txBox="1"/>
          <p:nvPr/>
        </p:nvSpPr>
        <p:spPr>
          <a:xfrm>
            <a:off x="147600" y="223920"/>
            <a:ext cx="9237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JP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carico WZ sul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 txBox="1"/>
          <p:nvPr/>
        </p:nvSpPr>
        <p:spPr>
          <a:xfrm>
            <a:off x="1214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 txBox="1"/>
          <p:nvPr/>
        </p:nvSpPr>
        <p:spPr>
          <a:xfrm>
            <a:off x="350028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 txBox="1"/>
          <p:nvPr/>
        </p:nvSpPr>
        <p:spPr>
          <a:xfrm>
            <a:off x="12142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 txBox="1"/>
          <p:nvPr/>
        </p:nvSpPr>
        <p:spPr>
          <a:xfrm>
            <a:off x="4414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 txBox="1"/>
          <p:nvPr/>
        </p:nvSpPr>
        <p:spPr>
          <a:xfrm>
            <a:off x="25858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6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3727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4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3429000" y="28954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 txBox="1"/>
          <p:nvPr/>
        </p:nvSpPr>
        <p:spPr>
          <a:xfrm>
            <a:off x="147600" y="223920"/>
            <a:ext cx="9237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JP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cremento W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 carico in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 txBox="1"/>
          <p:nvPr/>
        </p:nvSpPr>
        <p:spPr>
          <a:xfrm>
            <a:off x="17478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 txBox="1"/>
          <p:nvPr/>
        </p:nvSpPr>
        <p:spPr>
          <a:xfrm>
            <a:off x="403380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 txBox="1"/>
          <p:nvPr/>
        </p:nvSpPr>
        <p:spPr>
          <a:xfrm>
            <a:off x="35766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 txBox="1"/>
          <p:nvPr/>
        </p:nvSpPr>
        <p:spPr>
          <a:xfrm>
            <a:off x="40338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 txBox="1"/>
          <p:nvPr/>
        </p:nvSpPr>
        <p:spPr>
          <a:xfrm>
            <a:off x="44910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 txBox="1"/>
          <p:nvPr/>
        </p:nvSpPr>
        <p:spPr>
          <a:xfrm>
            <a:off x="174780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 txBox="1"/>
          <p:nvPr/>
        </p:nvSpPr>
        <p:spPr>
          <a:xfrm>
            <a:off x="49482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 txBox="1"/>
          <p:nvPr/>
        </p:nvSpPr>
        <p:spPr>
          <a:xfrm>
            <a:off x="5862600" y="5284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 txBox="1"/>
          <p:nvPr/>
        </p:nvSpPr>
        <p:spPr>
          <a:xfrm>
            <a:off x="58626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 txBox="1"/>
          <p:nvPr/>
        </p:nvSpPr>
        <p:spPr>
          <a:xfrm>
            <a:off x="63198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 txBox="1"/>
          <p:nvPr/>
        </p:nvSpPr>
        <p:spPr>
          <a:xfrm>
            <a:off x="540540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 txBox="1"/>
          <p:nvPr/>
        </p:nvSpPr>
        <p:spPr>
          <a:xfrm>
            <a:off x="677700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 txBox="1"/>
          <p:nvPr/>
        </p:nvSpPr>
        <p:spPr>
          <a:xfrm>
            <a:off x="311940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 txBox="1"/>
          <p:nvPr/>
        </p:nvSpPr>
        <p:spPr>
          <a:xfrm>
            <a:off x="631980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 txBox="1"/>
          <p:nvPr/>
        </p:nvSpPr>
        <p:spPr>
          <a:xfrm>
            <a:off x="677700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2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3963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47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6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 txBox="1"/>
          <p:nvPr/>
        </p:nvSpPr>
        <p:spPr>
          <a:xfrm>
            <a:off x="147600" y="223920"/>
            <a:ext cx="14572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 txBox="1"/>
          <p:nvPr/>
        </p:nvSpPr>
        <p:spPr>
          <a:xfrm>
            <a:off x="7386480" y="223920"/>
            <a:ext cx="15336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ac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ipo FI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43000" y="152280"/>
            <a:ext cx="2134080" cy="1194120"/>
            <a:chOff x="1143000" y="152280"/>
            <a:chExt cx="2134080" cy="1194120"/>
          </a:xfrm>
        </p:grpSpPr>
        <p:sp>
          <p:nvSpPr>
            <p:cNvPr id="43" name=""/>
            <p:cNvSpPr/>
            <p:nvPr/>
          </p:nvSpPr>
          <p:spPr>
            <a:xfrm>
              <a:off x="1143000" y="152280"/>
              <a:ext cx="2134080" cy="1143360"/>
            </a:xfrm>
            <a:custGeom>
              <a:avLst/>
              <a:gdLst/>
              <a:ahLst/>
              <a:rect l="0" t="0" r="r" b="b"/>
              <a:pathLst>
                <a:path fill="none" w="5928" h="3176">
                  <a:moveTo>
                    <a:pt x="987" y="0"/>
                  </a:moveTo>
                  <a:lnTo>
                    <a:pt x="788" y="6"/>
                  </a:lnTo>
                  <a:lnTo>
                    <a:pt x="599" y="30"/>
                  </a:lnTo>
                  <a:lnTo>
                    <a:pt x="436" y="61"/>
                  </a:lnTo>
                  <a:lnTo>
                    <a:pt x="286" y="106"/>
                  </a:lnTo>
                  <a:lnTo>
                    <a:pt x="171" y="161"/>
                  </a:lnTo>
                  <a:lnTo>
                    <a:pt x="74" y="223"/>
                  </a:lnTo>
                  <a:lnTo>
                    <a:pt x="17" y="290"/>
                  </a:lnTo>
                  <a:lnTo>
                    <a:pt x="8" y="330"/>
                  </a:lnTo>
                  <a:lnTo>
                    <a:pt x="0" y="366"/>
                  </a:lnTo>
                  <a:lnTo>
                    <a:pt x="0" y="1284"/>
                  </a:lnTo>
                  <a:lnTo>
                    <a:pt x="0" y="1834"/>
                  </a:lnTo>
                  <a:lnTo>
                    <a:pt x="8" y="1868"/>
                  </a:lnTo>
                  <a:lnTo>
                    <a:pt x="17" y="1910"/>
                  </a:lnTo>
                  <a:lnTo>
                    <a:pt x="74" y="1975"/>
                  </a:lnTo>
                  <a:lnTo>
                    <a:pt x="171" y="2036"/>
                  </a:lnTo>
                  <a:lnTo>
                    <a:pt x="286" y="2094"/>
                  </a:lnTo>
                  <a:lnTo>
                    <a:pt x="436" y="2140"/>
                  </a:lnTo>
                  <a:lnTo>
                    <a:pt x="599" y="2170"/>
                  </a:lnTo>
                  <a:lnTo>
                    <a:pt x="788" y="2195"/>
                  </a:lnTo>
                  <a:lnTo>
                    <a:pt x="987" y="2201"/>
                  </a:lnTo>
                  <a:lnTo>
                    <a:pt x="3451" y="2201"/>
                  </a:lnTo>
                  <a:lnTo>
                    <a:pt x="3869" y="3176"/>
                  </a:lnTo>
                  <a:lnTo>
                    <a:pt x="4932" y="2201"/>
                  </a:lnTo>
                  <a:lnTo>
                    <a:pt x="5131" y="2195"/>
                  </a:lnTo>
                  <a:lnTo>
                    <a:pt x="5320" y="2170"/>
                  </a:lnTo>
                  <a:lnTo>
                    <a:pt x="5492" y="2140"/>
                  </a:lnTo>
                  <a:lnTo>
                    <a:pt x="5633" y="2094"/>
                  </a:lnTo>
                  <a:lnTo>
                    <a:pt x="5756" y="2036"/>
                  </a:lnTo>
                  <a:lnTo>
                    <a:pt x="5853" y="1975"/>
                  </a:lnTo>
                  <a:lnTo>
                    <a:pt x="5911" y="1910"/>
                  </a:lnTo>
                  <a:lnTo>
                    <a:pt x="5919" y="1868"/>
                  </a:lnTo>
                  <a:lnTo>
                    <a:pt x="5928" y="1834"/>
                  </a:lnTo>
                  <a:lnTo>
                    <a:pt x="5928" y="1284"/>
                  </a:lnTo>
                  <a:lnTo>
                    <a:pt x="5928" y="366"/>
                  </a:lnTo>
                  <a:lnTo>
                    <a:pt x="5919" y="330"/>
                  </a:lnTo>
                  <a:lnTo>
                    <a:pt x="5911" y="290"/>
                  </a:lnTo>
                  <a:lnTo>
                    <a:pt x="5853" y="223"/>
                  </a:lnTo>
                  <a:lnTo>
                    <a:pt x="5756" y="161"/>
                  </a:lnTo>
                  <a:lnTo>
                    <a:pt x="5633" y="106"/>
                  </a:lnTo>
                  <a:lnTo>
                    <a:pt x="5492" y="61"/>
                  </a:lnTo>
                  <a:lnTo>
                    <a:pt x="5320" y="30"/>
                  </a:lnTo>
                  <a:lnTo>
                    <a:pt x="5131" y="6"/>
                  </a:lnTo>
                  <a:lnTo>
                    <a:pt x="4932" y="0"/>
                  </a:lnTo>
                  <a:lnTo>
                    <a:pt x="345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1311120" y="243000"/>
              <a:ext cx="1797120" cy="11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gistri principali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 x 8 bit = 64 bit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 x 8 bit = 48 bi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isponibili al pro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429000" y="152280"/>
            <a:ext cx="2134080" cy="1194120"/>
            <a:chOff x="3429000" y="152280"/>
            <a:chExt cx="2134080" cy="1194120"/>
          </a:xfrm>
        </p:grpSpPr>
        <p:sp>
          <p:nvSpPr>
            <p:cNvPr id="46" name=""/>
            <p:cNvSpPr/>
            <p:nvPr/>
          </p:nvSpPr>
          <p:spPr>
            <a:xfrm>
              <a:off x="3429000" y="152280"/>
              <a:ext cx="2134080" cy="1143360"/>
            </a:xfrm>
            <a:custGeom>
              <a:avLst/>
              <a:gdLst/>
              <a:ahLst/>
              <a:rect l="0" t="0" r="r" b="b"/>
              <a:pathLst>
                <a:path fill="none" w="5928" h="3176">
                  <a:moveTo>
                    <a:pt x="987" y="0"/>
                  </a:moveTo>
                  <a:lnTo>
                    <a:pt x="788" y="6"/>
                  </a:lnTo>
                  <a:lnTo>
                    <a:pt x="599" y="30"/>
                  </a:lnTo>
                  <a:lnTo>
                    <a:pt x="436" y="60"/>
                  </a:lnTo>
                  <a:lnTo>
                    <a:pt x="286" y="108"/>
                  </a:lnTo>
                  <a:lnTo>
                    <a:pt x="171" y="159"/>
                  </a:lnTo>
                  <a:lnTo>
                    <a:pt x="74" y="219"/>
                  </a:lnTo>
                  <a:lnTo>
                    <a:pt x="17" y="291"/>
                  </a:lnTo>
                  <a:lnTo>
                    <a:pt x="8" y="324"/>
                  </a:lnTo>
                  <a:lnTo>
                    <a:pt x="0" y="360"/>
                  </a:lnTo>
                  <a:lnTo>
                    <a:pt x="0" y="1261"/>
                  </a:lnTo>
                  <a:lnTo>
                    <a:pt x="0" y="1803"/>
                  </a:lnTo>
                  <a:lnTo>
                    <a:pt x="8" y="1839"/>
                  </a:lnTo>
                  <a:lnTo>
                    <a:pt x="17" y="1875"/>
                  </a:lnTo>
                  <a:lnTo>
                    <a:pt x="74" y="1944"/>
                  </a:lnTo>
                  <a:lnTo>
                    <a:pt x="171" y="2007"/>
                  </a:lnTo>
                  <a:lnTo>
                    <a:pt x="286" y="2058"/>
                  </a:lnTo>
                  <a:lnTo>
                    <a:pt x="436" y="2103"/>
                  </a:lnTo>
                  <a:lnTo>
                    <a:pt x="599" y="2133"/>
                  </a:lnTo>
                  <a:lnTo>
                    <a:pt x="788" y="2157"/>
                  </a:lnTo>
                  <a:lnTo>
                    <a:pt x="987" y="2163"/>
                  </a:lnTo>
                  <a:lnTo>
                    <a:pt x="806" y="3176"/>
                  </a:lnTo>
                  <a:lnTo>
                    <a:pt x="2468" y="2163"/>
                  </a:lnTo>
                  <a:lnTo>
                    <a:pt x="4932" y="2163"/>
                  </a:lnTo>
                  <a:lnTo>
                    <a:pt x="5131" y="2157"/>
                  </a:lnTo>
                  <a:lnTo>
                    <a:pt x="5320" y="2133"/>
                  </a:lnTo>
                  <a:lnTo>
                    <a:pt x="5492" y="2103"/>
                  </a:lnTo>
                  <a:lnTo>
                    <a:pt x="5633" y="2058"/>
                  </a:lnTo>
                  <a:lnTo>
                    <a:pt x="5756" y="2007"/>
                  </a:lnTo>
                  <a:lnTo>
                    <a:pt x="5853" y="1944"/>
                  </a:lnTo>
                  <a:lnTo>
                    <a:pt x="5911" y="1875"/>
                  </a:lnTo>
                  <a:lnTo>
                    <a:pt x="5919" y="1839"/>
                  </a:lnTo>
                  <a:lnTo>
                    <a:pt x="5928" y="1803"/>
                  </a:lnTo>
                  <a:lnTo>
                    <a:pt x="5928" y="1261"/>
                  </a:lnTo>
                  <a:lnTo>
                    <a:pt x="5928" y="360"/>
                  </a:lnTo>
                  <a:lnTo>
                    <a:pt x="5919" y="324"/>
                  </a:lnTo>
                  <a:lnTo>
                    <a:pt x="5911" y="291"/>
                  </a:lnTo>
                  <a:lnTo>
                    <a:pt x="5853" y="219"/>
                  </a:lnTo>
                  <a:lnTo>
                    <a:pt x="5756" y="159"/>
                  </a:lnTo>
                  <a:lnTo>
                    <a:pt x="5633" y="108"/>
                  </a:lnTo>
                  <a:lnTo>
                    <a:pt x="5492" y="60"/>
                  </a:lnTo>
                  <a:lnTo>
                    <a:pt x="5320" y="30"/>
                  </a:lnTo>
                  <a:lnTo>
                    <a:pt x="5131" y="6"/>
                  </a:lnTo>
                  <a:lnTo>
                    <a:pt x="4932" y="0"/>
                  </a:lnTo>
                  <a:lnTo>
                    <a:pt x="2468" y="0"/>
                  </a:lnTo>
                  <a:lnTo>
                    <a:pt x="98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597120" y="243000"/>
              <a:ext cx="1797120" cy="11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gistri alternativi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 x 8 bit = 64 bit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 x 8 bit = 48 bi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isponibili al prog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7081920" y="28908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081920" y="31194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81920" y="33480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81920" y="35766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81920" y="38052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081920" y="40338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081920" y="42624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081920" y="4491000"/>
            <a:ext cx="31428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86480" y="28908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386480" y="31194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386480" y="33480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86480" y="35766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86480" y="38052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6480" y="40338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6480" y="42624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86480" y="4491000"/>
            <a:ext cx="923760" cy="23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081920" y="2433600"/>
            <a:ext cx="12286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81280" y="3733920"/>
            <a:ext cx="2134080" cy="900720"/>
            <a:chOff x="3581280" y="3733920"/>
            <a:chExt cx="2134080" cy="900720"/>
          </a:xfrm>
        </p:grpSpPr>
        <p:sp>
          <p:nvSpPr>
            <p:cNvPr id="66" name=""/>
            <p:cNvSpPr/>
            <p:nvPr/>
          </p:nvSpPr>
          <p:spPr>
            <a:xfrm>
              <a:off x="3581280" y="3733920"/>
              <a:ext cx="2134080" cy="686160"/>
            </a:xfrm>
            <a:custGeom>
              <a:avLst/>
              <a:gdLst/>
              <a:ahLst/>
              <a:rect l="0" t="0" r="r" b="b"/>
              <a:pathLst>
                <a:path fill="none" w="5928" h="1906">
                  <a:moveTo>
                    <a:pt x="1458" y="471"/>
                  </a:moveTo>
                  <a:lnTo>
                    <a:pt x="1279" y="477"/>
                  </a:lnTo>
                  <a:lnTo>
                    <a:pt x="1108" y="487"/>
                  </a:lnTo>
                  <a:lnTo>
                    <a:pt x="956" y="511"/>
                  </a:lnTo>
                  <a:lnTo>
                    <a:pt x="833" y="540"/>
                  </a:lnTo>
                  <a:lnTo>
                    <a:pt x="721" y="577"/>
                  </a:lnTo>
                  <a:lnTo>
                    <a:pt x="633" y="617"/>
                  </a:lnTo>
                  <a:lnTo>
                    <a:pt x="589" y="663"/>
                  </a:lnTo>
                  <a:lnTo>
                    <a:pt x="569" y="710"/>
                  </a:lnTo>
                  <a:lnTo>
                    <a:pt x="569" y="1069"/>
                  </a:lnTo>
                  <a:lnTo>
                    <a:pt x="569" y="1667"/>
                  </a:lnTo>
                  <a:lnTo>
                    <a:pt x="589" y="1716"/>
                  </a:lnTo>
                  <a:lnTo>
                    <a:pt x="633" y="1759"/>
                  </a:lnTo>
                  <a:lnTo>
                    <a:pt x="721" y="1803"/>
                  </a:lnTo>
                  <a:lnTo>
                    <a:pt x="833" y="1836"/>
                  </a:lnTo>
                  <a:lnTo>
                    <a:pt x="956" y="1866"/>
                  </a:lnTo>
                  <a:lnTo>
                    <a:pt x="1108" y="1889"/>
                  </a:lnTo>
                  <a:lnTo>
                    <a:pt x="1279" y="1899"/>
                  </a:lnTo>
                  <a:lnTo>
                    <a:pt x="1458" y="1906"/>
                  </a:lnTo>
                  <a:lnTo>
                    <a:pt x="2798" y="1906"/>
                  </a:lnTo>
                  <a:lnTo>
                    <a:pt x="5027" y="1906"/>
                  </a:lnTo>
                  <a:lnTo>
                    <a:pt x="5207" y="1899"/>
                  </a:lnTo>
                  <a:lnTo>
                    <a:pt x="5378" y="1889"/>
                  </a:lnTo>
                  <a:lnTo>
                    <a:pt x="5530" y="1866"/>
                  </a:lnTo>
                  <a:lnTo>
                    <a:pt x="5661" y="1836"/>
                  </a:lnTo>
                  <a:lnTo>
                    <a:pt x="5777" y="1803"/>
                  </a:lnTo>
                  <a:lnTo>
                    <a:pt x="5860" y="1759"/>
                  </a:lnTo>
                  <a:lnTo>
                    <a:pt x="5908" y="1716"/>
                  </a:lnTo>
                  <a:lnTo>
                    <a:pt x="5928" y="1667"/>
                  </a:lnTo>
                  <a:lnTo>
                    <a:pt x="5928" y="1069"/>
                  </a:lnTo>
                  <a:lnTo>
                    <a:pt x="5928" y="710"/>
                  </a:lnTo>
                  <a:lnTo>
                    <a:pt x="5908" y="663"/>
                  </a:lnTo>
                  <a:lnTo>
                    <a:pt x="5860" y="617"/>
                  </a:lnTo>
                  <a:lnTo>
                    <a:pt x="5777" y="577"/>
                  </a:lnTo>
                  <a:lnTo>
                    <a:pt x="5661" y="540"/>
                  </a:lnTo>
                  <a:lnTo>
                    <a:pt x="5530" y="511"/>
                  </a:lnTo>
                  <a:lnTo>
                    <a:pt x="5378" y="487"/>
                  </a:lnTo>
                  <a:lnTo>
                    <a:pt x="5207" y="477"/>
                  </a:lnTo>
                  <a:lnTo>
                    <a:pt x="5027" y="471"/>
                  </a:lnTo>
                  <a:lnTo>
                    <a:pt x="2798" y="471"/>
                  </a:lnTo>
                  <a:lnTo>
                    <a:pt x="0" y="0"/>
                  </a:lnTo>
                  <a:lnTo>
                    <a:pt x="1458" y="4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749760" y="3807000"/>
              <a:ext cx="1797120" cy="8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gistri di indirizz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 x 16 bit = 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791320" y="228600"/>
            <a:ext cx="2134080" cy="1184400"/>
            <a:chOff x="5791320" y="228600"/>
            <a:chExt cx="2134080" cy="1184400"/>
          </a:xfrm>
        </p:grpSpPr>
        <p:sp>
          <p:nvSpPr>
            <p:cNvPr id="69" name=""/>
            <p:cNvSpPr/>
            <p:nvPr/>
          </p:nvSpPr>
          <p:spPr>
            <a:xfrm>
              <a:off x="5791320" y="228600"/>
              <a:ext cx="2134080" cy="914760"/>
            </a:xfrm>
            <a:custGeom>
              <a:avLst/>
              <a:gdLst/>
              <a:ahLst/>
              <a:rect l="0" t="0" r="r" b="b"/>
              <a:pathLst>
                <a:path fill="none" w="5928" h="2541">
                  <a:moveTo>
                    <a:pt x="987" y="0"/>
                  </a:moveTo>
                  <a:lnTo>
                    <a:pt x="788" y="7"/>
                  </a:lnTo>
                  <a:lnTo>
                    <a:pt x="599" y="28"/>
                  </a:lnTo>
                  <a:lnTo>
                    <a:pt x="436" y="56"/>
                  </a:lnTo>
                  <a:lnTo>
                    <a:pt x="286" y="103"/>
                  </a:lnTo>
                  <a:lnTo>
                    <a:pt x="171" y="149"/>
                  </a:lnTo>
                  <a:lnTo>
                    <a:pt x="74" y="209"/>
                  </a:lnTo>
                  <a:lnTo>
                    <a:pt x="17" y="273"/>
                  </a:lnTo>
                  <a:lnTo>
                    <a:pt x="8" y="309"/>
                  </a:lnTo>
                  <a:lnTo>
                    <a:pt x="0" y="341"/>
                  </a:lnTo>
                  <a:lnTo>
                    <a:pt x="0" y="1195"/>
                  </a:lnTo>
                  <a:lnTo>
                    <a:pt x="0" y="1708"/>
                  </a:lnTo>
                  <a:lnTo>
                    <a:pt x="8" y="1747"/>
                  </a:lnTo>
                  <a:lnTo>
                    <a:pt x="17" y="1779"/>
                  </a:lnTo>
                  <a:lnTo>
                    <a:pt x="74" y="1840"/>
                  </a:lnTo>
                  <a:lnTo>
                    <a:pt x="171" y="1900"/>
                  </a:lnTo>
                  <a:lnTo>
                    <a:pt x="286" y="1950"/>
                  </a:lnTo>
                  <a:lnTo>
                    <a:pt x="436" y="1989"/>
                  </a:lnTo>
                  <a:lnTo>
                    <a:pt x="599" y="2025"/>
                  </a:lnTo>
                  <a:lnTo>
                    <a:pt x="788" y="2039"/>
                  </a:lnTo>
                  <a:lnTo>
                    <a:pt x="987" y="2046"/>
                  </a:lnTo>
                  <a:lnTo>
                    <a:pt x="1671" y="2541"/>
                  </a:lnTo>
                  <a:lnTo>
                    <a:pt x="2468" y="2046"/>
                  </a:lnTo>
                  <a:lnTo>
                    <a:pt x="4932" y="2046"/>
                  </a:lnTo>
                  <a:lnTo>
                    <a:pt x="5131" y="2039"/>
                  </a:lnTo>
                  <a:lnTo>
                    <a:pt x="5320" y="2025"/>
                  </a:lnTo>
                  <a:lnTo>
                    <a:pt x="5492" y="1989"/>
                  </a:lnTo>
                  <a:lnTo>
                    <a:pt x="5633" y="1950"/>
                  </a:lnTo>
                  <a:lnTo>
                    <a:pt x="5756" y="1900"/>
                  </a:lnTo>
                  <a:lnTo>
                    <a:pt x="5853" y="1840"/>
                  </a:lnTo>
                  <a:lnTo>
                    <a:pt x="5911" y="1779"/>
                  </a:lnTo>
                  <a:lnTo>
                    <a:pt x="5919" y="1747"/>
                  </a:lnTo>
                  <a:lnTo>
                    <a:pt x="5928" y="1708"/>
                  </a:lnTo>
                  <a:lnTo>
                    <a:pt x="5928" y="1195"/>
                  </a:lnTo>
                  <a:lnTo>
                    <a:pt x="5928" y="341"/>
                  </a:lnTo>
                  <a:lnTo>
                    <a:pt x="5919" y="309"/>
                  </a:lnTo>
                  <a:lnTo>
                    <a:pt x="5911" y="273"/>
                  </a:lnTo>
                  <a:lnTo>
                    <a:pt x="5853" y="209"/>
                  </a:lnTo>
                  <a:lnTo>
                    <a:pt x="5756" y="149"/>
                  </a:lnTo>
                  <a:lnTo>
                    <a:pt x="5633" y="103"/>
                  </a:lnTo>
                  <a:lnTo>
                    <a:pt x="5492" y="56"/>
                  </a:lnTo>
                  <a:lnTo>
                    <a:pt x="5320" y="28"/>
                  </a:lnTo>
                  <a:lnTo>
                    <a:pt x="5131" y="7"/>
                  </a:lnTo>
                  <a:lnTo>
                    <a:pt x="4932" y="0"/>
                  </a:lnTo>
                  <a:lnTo>
                    <a:pt x="2468" y="0"/>
                  </a:lnTo>
                  <a:lnTo>
                    <a:pt x="98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959440" y="309600"/>
              <a:ext cx="1797120" cy="11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cumula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registro principal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52280" y="1295280"/>
            <a:ext cx="1067040" cy="1753560"/>
            <a:chOff x="152280" y="1295280"/>
            <a:chExt cx="1067040" cy="1753560"/>
          </a:xfrm>
        </p:grpSpPr>
        <p:sp>
          <p:nvSpPr>
            <p:cNvPr id="72" name=""/>
            <p:cNvSpPr/>
            <p:nvPr/>
          </p:nvSpPr>
          <p:spPr>
            <a:xfrm>
              <a:off x="152280" y="1295280"/>
              <a:ext cx="1067040" cy="1371960"/>
            </a:xfrm>
            <a:custGeom>
              <a:avLst/>
              <a:gdLst/>
              <a:ahLst/>
              <a:rect l="0" t="0" r="r" b="b"/>
              <a:pathLst>
                <a:path fill="none" w="2964" h="3811">
                  <a:moveTo>
                    <a:pt x="418" y="0"/>
                  </a:moveTo>
                  <a:lnTo>
                    <a:pt x="373" y="4"/>
                  </a:lnTo>
                  <a:lnTo>
                    <a:pt x="332" y="13"/>
                  </a:lnTo>
                  <a:lnTo>
                    <a:pt x="257" y="48"/>
                  </a:lnTo>
                  <a:lnTo>
                    <a:pt x="186" y="110"/>
                  </a:lnTo>
                  <a:lnTo>
                    <a:pt x="123" y="185"/>
                  </a:lnTo>
                  <a:lnTo>
                    <a:pt x="70" y="282"/>
                  </a:lnTo>
                  <a:lnTo>
                    <a:pt x="33" y="383"/>
                  </a:lnTo>
                  <a:lnTo>
                    <a:pt x="11" y="507"/>
                  </a:lnTo>
                  <a:lnTo>
                    <a:pt x="0" y="635"/>
                  </a:lnTo>
                  <a:lnTo>
                    <a:pt x="0" y="1588"/>
                  </a:lnTo>
                  <a:lnTo>
                    <a:pt x="0" y="3176"/>
                  </a:lnTo>
                  <a:lnTo>
                    <a:pt x="11" y="3304"/>
                  </a:lnTo>
                  <a:lnTo>
                    <a:pt x="33" y="3423"/>
                  </a:lnTo>
                  <a:lnTo>
                    <a:pt x="70" y="3529"/>
                  </a:lnTo>
                  <a:lnTo>
                    <a:pt x="123" y="3626"/>
                  </a:lnTo>
                  <a:lnTo>
                    <a:pt x="186" y="3701"/>
                  </a:lnTo>
                  <a:lnTo>
                    <a:pt x="257" y="3763"/>
                  </a:lnTo>
                  <a:lnTo>
                    <a:pt x="332" y="3798"/>
                  </a:lnTo>
                  <a:lnTo>
                    <a:pt x="373" y="3811"/>
                  </a:lnTo>
                  <a:lnTo>
                    <a:pt x="418" y="3811"/>
                  </a:lnTo>
                  <a:lnTo>
                    <a:pt x="1463" y="3811"/>
                  </a:lnTo>
                  <a:lnTo>
                    <a:pt x="2091" y="3811"/>
                  </a:lnTo>
                  <a:lnTo>
                    <a:pt x="2132" y="3811"/>
                  </a:lnTo>
                  <a:lnTo>
                    <a:pt x="2176" y="3798"/>
                  </a:lnTo>
                  <a:lnTo>
                    <a:pt x="2251" y="3763"/>
                  </a:lnTo>
                  <a:lnTo>
                    <a:pt x="2322" y="3701"/>
                  </a:lnTo>
                  <a:lnTo>
                    <a:pt x="2385" y="3626"/>
                  </a:lnTo>
                  <a:lnTo>
                    <a:pt x="2438" y="3529"/>
                  </a:lnTo>
                  <a:lnTo>
                    <a:pt x="2475" y="3423"/>
                  </a:lnTo>
                  <a:lnTo>
                    <a:pt x="2497" y="3304"/>
                  </a:lnTo>
                  <a:lnTo>
                    <a:pt x="2509" y="3176"/>
                  </a:lnTo>
                  <a:lnTo>
                    <a:pt x="2509" y="1588"/>
                  </a:lnTo>
                  <a:lnTo>
                    <a:pt x="2964" y="714"/>
                  </a:lnTo>
                  <a:lnTo>
                    <a:pt x="2509" y="635"/>
                  </a:lnTo>
                  <a:lnTo>
                    <a:pt x="2497" y="507"/>
                  </a:lnTo>
                  <a:lnTo>
                    <a:pt x="2475" y="383"/>
                  </a:lnTo>
                  <a:lnTo>
                    <a:pt x="2438" y="282"/>
                  </a:lnTo>
                  <a:lnTo>
                    <a:pt x="2385" y="185"/>
                  </a:lnTo>
                  <a:lnTo>
                    <a:pt x="2322" y="110"/>
                  </a:lnTo>
                  <a:lnTo>
                    <a:pt x="2251" y="48"/>
                  </a:lnTo>
                  <a:lnTo>
                    <a:pt x="2176" y="13"/>
                  </a:lnTo>
                  <a:lnTo>
                    <a:pt x="2132" y="4"/>
                  </a:lnTo>
                  <a:lnTo>
                    <a:pt x="2091" y="0"/>
                  </a:lnTo>
                  <a:lnTo>
                    <a:pt x="146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82600" y="1393920"/>
              <a:ext cx="806400" cy="165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terru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a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gi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14400" y="2819520"/>
            <a:ext cx="1067040" cy="1193760"/>
            <a:chOff x="914400" y="2819520"/>
            <a:chExt cx="1067040" cy="1193760"/>
          </a:xfrm>
        </p:grpSpPr>
        <p:sp>
          <p:nvSpPr>
            <p:cNvPr id="75" name=""/>
            <p:cNvSpPr/>
            <p:nvPr/>
          </p:nvSpPr>
          <p:spPr>
            <a:xfrm>
              <a:off x="914400" y="2819520"/>
              <a:ext cx="1067040" cy="1143360"/>
            </a:xfrm>
            <a:custGeom>
              <a:avLst/>
              <a:gdLst/>
              <a:ahLst/>
              <a:rect l="0" t="0" r="r" b="b"/>
              <a:pathLst>
                <a:path fill="none" w="2964" h="3176">
                  <a:moveTo>
                    <a:pt x="493" y="1186"/>
                  </a:moveTo>
                  <a:lnTo>
                    <a:pt x="392" y="1191"/>
                  </a:lnTo>
                  <a:lnTo>
                    <a:pt x="299" y="1211"/>
                  </a:lnTo>
                  <a:lnTo>
                    <a:pt x="220" y="1241"/>
                  </a:lnTo>
                  <a:lnTo>
                    <a:pt x="141" y="1288"/>
                  </a:lnTo>
                  <a:lnTo>
                    <a:pt x="83" y="1332"/>
                  </a:lnTo>
                  <a:lnTo>
                    <a:pt x="39" y="1396"/>
                  </a:lnTo>
                  <a:lnTo>
                    <a:pt x="8" y="1457"/>
                  </a:lnTo>
                  <a:lnTo>
                    <a:pt x="4" y="1487"/>
                  </a:lnTo>
                  <a:lnTo>
                    <a:pt x="0" y="1523"/>
                  </a:lnTo>
                  <a:lnTo>
                    <a:pt x="0" y="2015"/>
                  </a:lnTo>
                  <a:lnTo>
                    <a:pt x="0" y="2845"/>
                  </a:lnTo>
                  <a:lnTo>
                    <a:pt x="4" y="2881"/>
                  </a:lnTo>
                  <a:lnTo>
                    <a:pt x="8" y="2911"/>
                  </a:lnTo>
                  <a:lnTo>
                    <a:pt x="39" y="2972"/>
                  </a:lnTo>
                  <a:lnTo>
                    <a:pt x="83" y="3030"/>
                  </a:lnTo>
                  <a:lnTo>
                    <a:pt x="141" y="3080"/>
                  </a:lnTo>
                  <a:lnTo>
                    <a:pt x="220" y="3121"/>
                  </a:lnTo>
                  <a:lnTo>
                    <a:pt x="299" y="3152"/>
                  </a:lnTo>
                  <a:lnTo>
                    <a:pt x="392" y="3171"/>
                  </a:lnTo>
                  <a:lnTo>
                    <a:pt x="493" y="3176"/>
                  </a:lnTo>
                  <a:lnTo>
                    <a:pt x="1729" y="3176"/>
                  </a:lnTo>
                  <a:lnTo>
                    <a:pt x="2470" y="3176"/>
                  </a:lnTo>
                  <a:lnTo>
                    <a:pt x="2571" y="3171"/>
                  </a:lnTo>
                  <a:lnTo>
                    <a:pt x="2664" y="3152"/>
                  </a:lnTo>
                  <a:lnTo>
                    <a:pt x="2743" y="3121"/>
                  </a:lnTo>
                  <a:lnTo>
                    <a:pt x="2823" y="3080"/>
                  </a:lnTo>
                  <a:lnTo>
                    <a:pt x="2880" y="3030"/>
                  </a:lnTo>
                  <a:lnTo>
                    <a:pt x="2924" y="2972"/>
                  </a:lnTo>
                  <a:lnTo>
                    <a:pt x="2955" y="2911"/>
                  </a:lnTo>
                  <a:lnTo>
                    <a:pt x="2964" y="2881"/>
                  </a:lnTo>
                  <a:lnTo>
                    <a:pt x="2964" y="2845"/>
                  </a:lnTo>
                  <a:lnTo>
                    <a:pt x="2964" y="2015"/>
                  </a:lnTo>
                  <a:lnTo>
                    <a:pt x="2964" y="1523"/>
                  </a:lnTo>
                  <a:lnTo>
                    <a:pt x="2964" y="1487"/>
                  </a:lnTo>
                  <a:lnTo>
                    <a:pt x="2955" y="1457"/>
                  </a:lnTo>
                  <a:lnTo>
                    <a:pt x="2924" y="1396"/>
                  </a:lnTo>
                  <a:lnTo>
                    <a:pt x="2880" y="1332"/>
                  </a:lnTo>
                  <a:lnTo>
                    <a:pt x="2823" y="1288"/>
                  </a:lnTo>
                  <a:lnTo>
                    <a:pt x="2743" y="1241"/>
                  </a:lnTo>
                  <a:lnTo>
                    <a:pt x="2664" y="1211"/>
                  </a:lnTo>
                  <a:lnTo>
                    <a:pt x="2571" y="1191"/>
                  </a:lnTo>
                  <a:lnTo>
                    <a:pt x="2470" y="1186"/>
                  </a:lnTo>
                  <a:lnTo>
                    <a:pt x="2161" y="0"/>
                  </a:lnTo>
                  <a:lnTo>
                    <a:pt x="1729" y="11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044720" y="2909880"/>
              <a:ext cx="806400" cy="11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fre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gi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934320" y="1676520"/>
            <a:ext cx="15228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800600" y="2209680"/>
            <a:ext cx="1905480" cy="900720"/>
            <a:chOff x="4800600" y="2209680"/>
            <a:chExt cx="1905480" cy="900720"/>
          </a:xfrm>
        </p:grpSpPr>
        <p:sp>
          <p:nvSpPr>
            <p:cNvPr id="79" name=""/>
            <p:cNvSpPr/>
            <p:nvPr/>
          </p:nvSpPr>
          <p:spPr>
            <a:xfrm>
              <a:off x="4800600" y="2209680"/>
              <a:ext cx="1905480" cy="686160"/>
            </a:xfrm>
            <a:custGeom>
              <a:avLst/>
              <a:gdLst/>
              <a:ahLst/>
              <a:rect l="0" t="0" r="r" b="b"/>
              <a:pathLst>
                <a:path fill="none" w="5293" h="1906">
                  <a:moveTo>
                    <a:pt x="238" y="0"/>
                  </a:moveTo>
                  <a:lnTo>
                    <a:pt x="185" y="4"/>
                  </a:lnTo>
                  <a:lnTo>
                    <a:pt x="145" y="17"/>
                  </a:lnTo>
                  <a:lnTo>
                    <a:pt x="101" y="39"/>
                  </a:lnTo>
                  <a:lnTo>
                    <a:pt x="66" y="70"/>
                  </a:lnTo>
                  <a:lnTo>
                    <a:pt x="44" y="105"/>
                  </a:lnTo>
                  <a:lnTo>
                    <a:pt x="17" y="145"/>
                  </a:lnTo>
                  <a:lnTo>
                    <a:pt x="8" y="189"/>
                  </a:lnTo>
                  <a:lnTo>
                    <a:pt x="0" y="238"/>
                  </a:lnTo>
                  <a:lnTo>
                    <a:pt x="0" y="1667"/>
                  </a:lnTo>
                  <a:lnTo>
                    <a:pt x="8" y="1716"/>
                  </a:lnTo>
                  <a:lnTo>
                    <a:pt x="17" y="1760"/>
                  </a:lnTo>
                  <a:lnTo>
                    <a:pt x="44" y="1804"/>
                  </a:lnTo>
                  <a:lnTo>
                    <a:pt x="66" y="1835"/>
                  </a:lnTo>
                  <a:lnTo>
                    <a:pt x="101" y="1866"/>
                  </a:lnTo>
                  <a:lnTo>
                    <a:pt x="145" y="1888"/>
                  </a:lnTo>
                  <a:lnTo>
                    <a:pt x="185" y="1901"/>
                  </a:lnTo>
                  <a:lnTo>
                    <a:pt x="238" y="1906"/>
                  </a:lnTo>
                  <a:lnTo>
                    <a:pt x="5055" y="1906"/>
                  </a:lnTo>
                  <a:lnTo>
                    <a:pt x="5108" y="1901"/>
                  </a:lnTo>
                  <a:lnTo>
                    <a:pt x="5148" y="1888"/>
                  </a:lnTo>
                  <a:lnTo>
                    <a:pt x="5192" y="1866"/>
                  </a:lnTo>
                  <a:lnTo>
                    <a:pt x="5227" y="1835"/>
                  </a:lnTo>
                  <a:lnTo>
                    <a:pt x="5249" y="1804"/>
                  </a:lnTo>
                  <a:lnTo>
                    <a:pt x="5276" y="1760"/>
                  </a:lnTo>
                  <a:lnTo>
                    <a:pt x="5284" y="1716"/>
                  </a:lnTo>
                  <a:lnTo>
                    <a:pt x="5293" y="1667"/>
                  </a:lnTo>
                  <a:lnTo>
                    <a:pt x="5293" y="238"/>
                  </a:lnTo>
                  <a:lnTo>
                    <a:pt x="5284" y="189"/>
                  </a:lnTo>
                  <a:lnTo>
                    <a:pt x="5276" y="145"/>
                  </a:lnTo>
                  <a:lnTo>
                    <a:pt x="5249" y="105"/>
                  </a:lnTo>
                  <a:lnTo>
                    <a:pt x="5227" y="70"/>
                  </a:lnTo>
                  <a:lnTo>
                    <a:pt x="5192" y="39"/>
                  </a:lnTo>
                  <a:lnTo>
                    <a:pt x="5148" y="17"/>
                  </a:lnTo>
                  <a:lnTo>
                    <a:pt x="5108" y="4"/>
                  </a:lnTo>
                  <a:lnTo>
                    <a:pt x="505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921200" y="2282760"/>
              <a:ext cx="1663560" cy="8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gistri alternativ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 x 8 bit = 16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867280" y="1676520"/>
            <a:ext cx="7632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943600" y="1676520"/>
            <a:ext cx="152388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571500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Memoria Interna allo Z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 txBox="1"/>
          <p:nvPr/>
        </p:nvSpPr>
        <p:spPr>
          <a:xfrm>
            <a:off x="147600" y="223920"/>
            <a:ext cx="13809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 txBox="1"/>
          <p:nvPr/>
        </p:nvSpPr>
        <p:spPr>
          <a:xfrm>
            <a:off x="395748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 txBox="1"/>
          <p:nvPr/>
        </p:nvSpPr>
        <p:spPr>
          <a:xfrm>
            <a:off x="16714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 txBox="1"/>
          <p:nvPr/>
        </p:nvSpPr>
        <p:spPr>
          <a:xfrm>
            <a:off x="3500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76312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crivo High 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 txBox="1"/>
          <p:nvPr/>
        </p:nvSpPr>
        <p:spPr>
          <a:xfrm>
            <a:off x="395748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 txBox="1"/>
          <p:nvPr/>
        </p:nvSpPr>
        <p:spPr>
          <a:xfrm>
            <a:off x="16714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 txBox="1"/>
          <p:nvPr/>
        </p:nvSpPr>
        <p:spPr>
          <a:xfrm>
            <a:off x="3500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 txBox="1"/>
          <p:nvPr/>
        </p:nvSpPr>
        <p:spPr>
          <a:xfrm>
            <a:off x="147600" y="223920"/>
            <a:ext cx="13809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ecre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ncora 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 txBox="1"/>
          <p:nvPr/>
        </p:nvSpPr>
        <p:spPr>
          <a:xfrm>
            <a:off x="395748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16714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 txBox="1"/>
          <p:nvPr/>
        </p:nvSpPr>
        <p:spPr>
          <a:xfrm>
            <a:off x="3500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 txBox="1"/>
          <p:nvPr/>
        </p:nvSpPr>
        <p:spPr>
          <a:xfrm>
            <a:off x="147600" y="223920"/>
            <a:ext cx="13809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engo tu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i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 txBox="1"/>
          <p:nvPr/>
        </p:nvSpPr>
        <p:spPr>
          <a:xfrm>
            <a:off x="395748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 txBox="1"/>
          <p:nvPr/>
        </p:nvSpPr>
        <p:spPr>
          <a:xfrm>
            <a:off x="16714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 txBox="1"/>
          <p:nvPr/>
        </p:nvSpPr>
        <p:spPr>
          <a:xfrm>
            <a:off x="3500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0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4891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 txBox="1"/>
          <p:nvPr/>
        </p:nvSpPr>
        <p:spPr>
          <a:xfrm>
            <a:off x="147600" y="223920"/>
            <a:ext cx="13809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 txBox="1"/>
          <p:nvPr/>
        </p:nvSpPr>
        <p:spPr>
          <a:xfrm>
            <a:off x="62434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 txBox="1"/>
          <p:nvPr/>
        </p:nvSpPr>
        <p:spPr>
          <a:xfrm>
            <a:off x="67006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 txBox="1"/>
          <p:nvPr/>
        </p:nvSpPr>
        <p:spPr>
          <a:xfrm>
            <a:off x="7310520" y="223920"/>
            <a:ext cx="16095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carico Low 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 txBox="1"/>
          <p:nvPr/>
        </p:nvSpPr>
        <p:spPr>
          <a:xfrm>
            <a:off x="16714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 txBox="1"/>
          <p:nvPr/>
        </p:nvSpPr>
        <p:spPr>
          <a:xfrm>
            <a:off x="21286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 txBox="1"/>
          <p:nvPr/>
        </p:nvSpPr>
        <p:spPr>
          <a:xfrm>
            <a:off x="25858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 txBox="1"/>
          <p:nvPr/>
        </p:nvSpPr>
        <p:spPr>
          <a:xfrm>
            <a:off x="30430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 txBox="1"/>
          <p:nvPr/>
        </p:nvSpPr>
        <p:spPr>
          <a:xfrm>
            <a:off x="395748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 txBox="1"/>
          <p:nvPr/>
        </p:nvSpPr>
        <p:spPr>
          <a:xfrm>
            <a:off x="35002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 txBox="1"/>
          <p:nvPr/>
        </p:nvSpPr>
        <p:spPr>
          <a:xfrm>
            <a:off x="39574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 txBox="1"/>
          <p:nvPr/>
        </p:nvSpPr>
        <p:spPr>
          <a:xfrm>
            <a:off x="44146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 txBox="1"/>
          <p:nvPr/>
        </p:nvSpPr>
        <p:spPr>
          <a:xfrm>
            <a:off x="167148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 txBox="1"/>
          <p:nvPr/>
        </p:nvSpPr>
        <p:spPr>
          <a:xfrm>
            <a:off x="48718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 txBox="1"/>
          <p:nvPr/>
        </p:nvSpPr>
        <p:spPr>
          <a:xfrm>
            <a:off x="5786280" y="52848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 txBox="1"/>
          <p:nvPr/>
        </p:nvSpPr>
        <p:spPr>
          <a:xfrm>
            <a:off x="48718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 txBox="1"/>
          <p:nvPr/>
        </p:nvSpPr>
        <p:spPr>
          <a:xfrm>
            <a:off x="53290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 txBox="1"/>
          <p:nvPr/>
        </p:nvSpPr>
        <p:spPr>
          <a:xfrm>
            <a:off x="5786280" y="223920"/>
            <a:ext cx="46656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 txBox="1"/>
          <p:nvPr/>
        </p:nvSpPr>
        <p:spPr>
          <a:xfrm>
            <a:off x="62434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 txBox="1"/>
          <p:nvPr/>
        </p:nvSpPr>
        <p:spPr>
          <a:xfrm>
            <a:off x="532908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 txBox="1"/>
          <p:nvPr/>
        </p:nvSpPr>
        <p:spPr>
          <a:xfrm>
            <a:off x="670068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 txBox="1"/>
          <p:nvPr/>
        </p:nvSpPr>
        <p:spPr>
          <a:xfrm>
            <a:off x="304308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"/>
          <p:cNvSpPr txBox="1"/>
          <p:nvPr/>
        </p:nvSpPr>
        <p:spPr>
          <a:xfrm>
            <a:off x="350028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 txBox="1"/>
          <p:nvPr/>
        </p:nvSpPr>
        <p:spPr>
          <a:xfrm>
            <a:off x="147600" y="223920"/>
            <a:ext cx="13809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"/>
          <p:cNvSpPr txBox="1"/>
          <p:nvPr/>
        </p:nvSpPr>
        <p:spPr>
          <a:xfrm>
            <a:off x="376200" y="909720"/>
            <a:ext cx="1000080" cy="466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"/>
          <p:cNvSpPr txBox="1"/>
          <p:nvPr/>
        </p:nvSpPr>
        <p:spPr>
          <a:xfrm>
            <a:off x="376200" y="1747800"/>
            <a:ext cx="1000080" cy="466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"/>
          <p:cNvSpPr txBox="1"/>
          <p:nvPr/>
        </p:nvSpPr>
        <p:spPr>
          <a:xfrm>
            <a:off x="4719600" y="452520"/>
            <a:ext cx="1533600" cy="10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066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"/>
          <p:cNvSpPr txBox="1"/>
          <p:nvPr/>
        </p:nvSpPr>
        <p:spPr>
          <a:xfrm>
            <a:off x="1976400" y="1747800"/>
            <a:ext cx="1762200" cy="86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tro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ato IF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nterrupt enable Flip-F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"/>
          <p:cNvSpPr txBox="1"/>
          <p:nvPr/>
        </p:nvSpPr>
        <p:spPr>
          <a:xfrm>
            <a:off x="4719600" y="1900080"/>
            <a:ext cx="21430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gnora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"/>
          <p:cNvSpPr txBox="1"/>
          <p:nvPr/>
        </p:nvSpPr>
        <p:spPr>
          <a:xfrm>
            <a:off x="3733920" y="1828800"/>
            <a:ext cx="102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isabili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 txBox="1"/>
          <p:nvPr/>
        </p:nvSpPr>
        <p:spPr>
          <a:xfrm>
            <a:off x="1900080" y="4033800"/>
            <a:ext cx="2676600" cy="390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trolla stato di I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 txBox="1"/>
          <p:nvPr/>
        </p:nvSpPr>
        <p:spPr>
          <a:xfrm>
            <a:off x="299880" y="4871880"/>
            <a:ext cx="2600280" cy="1801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M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 Z80 aspetta sul DATA B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un’istruzione proveniente 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eriferica che lo ha INTerro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olitamente tale istruzione sar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un RST (restart) o una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 txBox="1"/>
          <p:nvPr/>
        </p:nvSpPr>
        <p:spPr>
          <a:xfrm>
            <a:off x="3043080" y="4871880"/>
            <a:ext cx="1990800" cy="1801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Un segnale di INTer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esegue un CALL 0038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 0038H avremo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outin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terrupt 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 txBox="1"/>
          <p:nvPr/>
        </p:nvSpPr>
        <p:spPr>
          <a:xfrm>
            <a:off x="5176800" y="4871880"/>
            <a:ext cx="3666960" cy="1801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a modalita’ piu’ frequentmente us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’indirizzo formato dal byte sul DATA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inviato dalla periferica) e dal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ontenuto nel registro I contiene a sua vo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’indirizzo della sub-routine da e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"/>
          <p:cNvSpPr/>
          <p:nvPr/>
        </p:nvSpPr>
        <p:spPr>
          <a:xfrm>
            <a:off x="1828800" y="464832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"/>
          <p:cNvSpPr/>
          <p:nvPr/>
        </p:nvSpPr>
        <p:spPr>
          <a:xfrm>
            <a:off x="3200400" y="441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"/>
          <p:cNvSpPr txBox="1"/>
          <p:nvPr/>
        </p:nvSpPr>
        <p:spPr>
          <a:xfrm>
            <a:off x="1976400" y="909720"/>
            <a:ext cx="2295360" cy="622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egue l’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ll’indirizzo 006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"/>
          <p:cNvSpPr txBox="1"/>
          <p:nvPr/>
        </p:nvSpPr>
        <p:spPr>
          <a:xfrm>
            <a:off x="5100480" y="2662200"/>
            <a:ext cx="2143080" cy="1103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struzioni colleg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I Enable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I Disable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 x Interrupt Mode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>
            <a:off x="1371600" y="1981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/>
          <p:nvPr/>
        </p:nvSpPr>
        <p:spPr>
          <a:xfrm>
            <a:off x="1371600" y="1143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>
            <a:off x="3733920" y="2133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"/>
          <p:cNvSpPr/>
          <p:nvPr/>
        </p:nvSpPr>
        <p:spPr>
          <a:xfrm>
            <a:off x="304812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"/>
          <p:cNvSpPr/>
          <p:nvPr/>
        </p:nvSpPr>
        <p:spPr>
          <a:xfrm>
            <a:off x="182880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"/>
          <p:cNvSpPr/>
          <p:nvPr/>
        </p:nvSpPr>
        <p:spPr>
          <a:xfrm>
            <a:off x="403848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"/>
          <p:cNvSpPr/>
          <p:nvPr/>
        </p:nvSpPr>
        <p:spPr>
          <a:xfrm>
            <a:off x="69343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4267080" y="1143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 txBox="1"/>
          <p:nvPr/>
        </p:nvSpPr>
        <p:spPr>
          <a:xfrm>
            <a:off x="2128680" y="2890800"/>
            <a:ext cx="2219400" cy="77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trolla BUS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F1,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30481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 txBox="1"/>
          <p:nvPr/>
        </p:nvSpPr>
        <p:spPr>
          <a:xfrm>
            <a:off x="3124080" y="2590920"/>
            <a:ext cx="808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bili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"/>
          <p:cNvSpPr txBox="1"/>
          <p:nvPr/>
        </p:nvSpPr>
        <p:spPr>
          <a:xfrm>
            <a:off x="376200" y="2890800"/>
            <a:ext cx="1152360" cy="69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US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"/>
          <p:cNvSpPr txBox="1"/>
          <p:nvPr/>
        </p:nvSpPr>
        <p:spPr>
          <a:xfrm>
            <a:off x="3124080" y="365760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at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 flipH="1">
            <a:off x="1523880" y="3200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 txBox="1"/>
          <p:nvPr/>
        </p:nvSpPr>
        <p:spPr>
          <a:xfrm>
            <a:off x="1523880" y="289548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t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 txBox="1"/>
          <p:nvPr/>
        </p:nvSpPr>
        <p:spPr>
          <a:xfrm>
            <a:off x="6624720" y="223920"/>
            <a:ext cx="2143080" cy="138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outine ter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 RETN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rom N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F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F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>
            <a:off x="6248520" y="1143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"/>
          <p:cNvSpPr txBox="1"/>
          <p:nvPr/>
        </p:nvSpPr>
        <p:spPr>
          <a:xfrm>
            <a:off x="380880" y="228600"/>
            <a:ext cx="2590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Gestione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"/>
          <p:cNvSpPr txBox="1"/>
          <p:nvPr/>
        </p:nvSpPr>
        <p:spPr>
          <a:xfrm>
            <a:off x="2743200" y="1066680"/>
            <a:ext cx="1905120" cy="55188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"/>
          <p:cNvSpPr txBox="1"/>
          <p:nvPr/>
        </p:nvSpPr>
        <p:spPr>
          <a:xfrm>
            <a:off x="147600" y="223920"/>
            <a:ext cx="19144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 in I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"/>
          <p:cNvSpPr txBox="1"/>
          <p:nvPr/>
        </p:nvSpPr>
        <p:spPr>
          <a:xfrm>
            <a:off x="2205000" y="528480"/>
            <a:ext cx="9237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 txBox="1"/>
          <p:nvPr/>
        </p:nvSpPr>
        <p:spPr>
          <a:xfrm>
            <a:off x="3119400" y="528480"/>
            <a:ext cx="2752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 txBox="1"/>
          <p:nvPr/>
        </p:nvSpPr>
        <p:spPr>
          <a:xfrm>
            <a:off x="40338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 txBox="1"/>
          <p:nvPr/>
        </p:nvSpPr>
        <p:spPr>
          <a:xfrm>
            <a:off x="624348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 txBox="1"/>
          <p:nvPr/>
        </p:nvSpPr>
        <p:spPr>
          <a:xfrm>
            <a:off x="586260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 txBox="1"/>
          <p:nvPr/>
        </p:nvSpPr>
        <p:spPr>
          <a:xfrm>
            <a:off x="5862600" y="528480"/>
            <a:ext cx="77148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 txBox="1"/>
          <p:nvPr/>
        </p:nvSpPr>
        <p:spPr>
          <a:xfrm>
            <a:off x="677700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erriferica in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"/>
          <p:cNvSpPr/>
          <p:nvPr/>
        </p:nvSpPr>
        <p:spPr>
          <a:xfrm>
            <a:off x="1676520" y="5410080"/>
            <a:ext cx="22860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 txBox="1"/>
          <p:nvPr/>
        </p:nvSpPr>
        <p:spPr>
          <a:xfrm>
            <a:off x="2743200" y="1066680"/>
            <a:ext cx="1905120" cy="55188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147600" y="223920"/>
            <a:ext cx="19144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 in I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 txBox="1"/>
          <p:nvPr/>
        </p:nvSpPr>
        <p:spPr>
          <a:xfrm>
            <a:off x="3119400" y="528480"/>
            <a:ext cx="2752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 txBox="1"/>
          <p:nvPr/>
        </p:nvSpPr>
        <p:spPr>
          <a:xfrm>
            <a:off x="220500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 txBox="1"/>
          <p:nvPr/>
        </p:nvSpPr>
        <p:spPr>
          <a:xfrm>
            <a:off x="40338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624348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 txBox="1"/>
          <p:nvPr/>
        </p:nvSpPr>
        <p:spPr>
          <a:xfrm>
            <a:off x="586260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 txBox="1"/>
          <p:nvPr/>
        </p:nvSpPr>
        <p:spPr>
          <a:xfrm>
            <a:off x="5862600" y="528480"/>
            <a:ext cx="77148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 txBox="1"/>
          <p:nvPr/>
        </p:nvSpPr>
        <p:spPr>
          <a:xfrm>
            <a:off x="6777000" y="223920"/>
            <a:ext cx="206676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 attiva M1 e al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pedenza DATA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4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>
            <a:off x="1676520" y="5410080"/>
            <a:ext cx="22860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7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8" name=""/>
          <p:cNvSpPr txBox="1"/>
          <p:nvPr/>
        </p:nvSpPr>
        <p:spPr>
          <a:xfrm>
            <a:off x="2743200" y="1066680"/>
            <a:ext cx="1905120" cy="5518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3119400" y="528480"/>
            <a:ext cx="2752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4" name=""/>
          <p:cNvSpPr txBox="1"/>
          <p:nvPr/>
        </p:nvSpPr>
        <p:spPr>
          <a:xfrm>
            <a:off x="220500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"/>
          <p:cNvSpPr txBox="1"/>
          <p:nvPr/>
        </p:nvSpPr>
        <p:spPr>
          <a:xfrm>
            <a:off x="4033800" y="22392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6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"/>
          <p:cNvSpPr txBox="1"/>
          <p:nvPr/>
        </p:nvSpPr>
        <p:spPr>
          <a:xfrm>
            <a:off x="147600" y="223920"/>
            <a:ext cx="19144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 in I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9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0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2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"/>
          <p:cNvSpPr txBox="1"/>
          <p:nvPr/>
        </p:nvSpPr>
        <p:spPr>
          <a:xfrm>
            <a:off x="624348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"/>
          <p:cNvSpPr txBox="1"/>
          <p:nvPr/>
        </p:nvSpPr>
        <p:spPr>
          <a:xfrm>
            <a:off x="586260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"/>
          <p:cNvSpPr txBox="1"/>
          <p:nvPr/>
        </p:nvSpPr>
        <p:spPr>
          <a:xfrm>
            <a:off x="5862600" y="528480"/>
            <a:ext cx="77148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6" name=""/>
          <p:cNvSpPr txBox="1"/>
          <p:nvPr/>
        </p:nvSpPr>
        <p:spPr>
          <a:xfrm>
            <a:off x="677700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 attiva IOR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8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9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0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1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3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4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5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9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0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1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2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3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4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5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6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7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8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0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1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2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3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6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7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8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9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5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2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4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5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7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8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0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1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2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3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9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0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6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9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4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8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9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4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5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6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7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8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9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2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4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5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6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7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9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0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1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2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3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4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5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9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0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1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3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4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5" name=""/>
          <p:cNvSpPr txBox="1"/>
          <p:nvPr/>
        </p:nvSpPr>
        <p:spPr>
          <a:xfrm>
            <a:off x="3119400" y="528480"/>
            <a:ext cx="2752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6" name=""/>
          <p:cNvSpPr txBox="1"/>
          <p:nvPr/>
        </p:nvSpPr>
        <p:spPr>
          <a:xfrm>
            <a:off x="220500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"/>
          <p:cNvSpPr txBox="1"/>
          <p:nvPr/>
        </p:nvSpPr>
        <p:spPr>
          <a:xfrm>
            <a:off x="40338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8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9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0" name=""/>
          <p:cNvSpPr txBox="1"/>
          <p:nvPr/>
        </p:nvSpPr>
        <p:spPr>
          <a:xfrm>
            <a:off x="147600" y="223920"/>
            <a:ext cx="19144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 in I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2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3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6" name=""/>
          <p:cNvSpPr txBox="1"/>
          <p:nvPr/>
        </p:nvSpPr>
        <p:spPr>
          <a:xfrm>
            <a:off x="624348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7" name=""/>
          <p:cNvSpPr txBox="1"/>
          <p:nvPr/>
        </p:nvSpPr>
        <p:spPr>
          <a:xfrm>
            <a:off x="586260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8" name=""/>
          <p:cNvSpPr txBox="1"/>
          <p:nvPr/>
        </p:nvSpPr>
        <p:spPr>
          <a:xfrm>
            <a:off x="5862600" y="528480"/>
            <a:ext cx="77148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9" name=""/>
          <p:cNvSpPr txBox="1"/>
          <p:nvPr/>
        </p:nvSpPr>
        <p:spPr>
          <a:xfrm>
            <a:off x="677700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eriferica invia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yte di indirizz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167520" y="5284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25312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71032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6752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62472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081920" y="2239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6247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0819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5391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9963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539120" y="22392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861048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76312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453520" y="5284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Z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1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7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2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3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4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7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9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0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1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2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3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5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6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2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3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4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8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9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0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1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8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9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0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1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2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3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4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5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6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7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8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0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2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3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4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5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6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8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9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8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9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0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2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9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0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1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2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6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8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9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0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1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2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3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4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5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7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8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9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0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6297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6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0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6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6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5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 txBox="1"/>
          <p:nvPr/>
        </p:nvSpPr>
        <p:spPr>
          <a:xfrm>
            <a:off x="3119400" y="528480"/>
            <a:ext cx="2752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 txBox="1"/>
          <p:nvPr/>
        </p:nvSpPr>
        <p:spPr>
          <a:xfrm>
            <a:off x="220500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 txBox="1"/>
          <p:nvPr/>
        </p:nvSpPr>
        <p:spPr>
          <a:xfrm>
            <a:off x="40338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 txBox="1"/>
          <p:nvPr/>
        </p:nvSpPr>
        <p:spPr>
          <a:xfrm>
            <a:off x="147600" y="223920"/>
            <a:ext cx="19144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 in I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 txBox="1"/>
          <p:nvPr/>
        </p:nvSpPr>
        <p:spPr>
          <a:xfrm>
            <a:off x="5862600" y="452520"/>
            <a:ext cx="771480" cy="39060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 txBox="1"/>
          <p:nvPr/>
        </p:nvSpPr>
        <p:spPr>
          <a:xfrm>
            <a:off x="5862600" y="223920"/>
            <a:ext cx="39060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 txBox="1"/>
          <p:nvPr/>
        </p:nvSpPr>
        <p:spPr>
          <a:xfrm>
            <a:off x="624348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"/>
          <p:cNvSpPr txBox="1"/>
          <p:nvPr/>
        </p:nvSpPr>
        <p:spPr>
          <a:xfrm>
            <a:off x="677700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 legge routin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estione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6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8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1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2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4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5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7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8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0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1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2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4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5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6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7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8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9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0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4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8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9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0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1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2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3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4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5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2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7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8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9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0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1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4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6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7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8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9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0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1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5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6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7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8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0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1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2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3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4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7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8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0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1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2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3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4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6525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6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8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6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6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0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1" name=""/>
          <p:cNvSpPr txBox="1"/>
          <p:nvPr/>
        </p:nvSpPr>
        <p:spPr>
          <a:xfrm>
            <a:off x="22050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2" name=""/>
          <p:cNvSpPr txBox="1"/>
          <p:nvPr/>
        </p:nvSpPr>
        <p:spPr>
          <a:xfrm>
            <a:off x="266220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3" name=""/>
          <p:cNvSpPr txBox="1"/>
          <p:nvPr/>
        </p:nvSpPr>
        <p:spPr>
          <a:xfrm>
            <a:off x="3119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4" name=""/>
          <p:cNvSpPr txBox="1"/>
          <p:nvPr/>
        </p:nvSpPr>
        <p:spPr>
          <a:xfrm>
            <a:off x="35766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5" name=""/>
          <p:cNvSpPr txBox="1"/>
          <p:nvPr/>
        </p:nvSpPr>
        <p:spPr>
          <a:xfrm>
            <a:off x="3119400" y="528480"/>
            <a:ext cx="2752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6" name=""/>
          <p:cNvSpPr txBox="1"/>
          <p:nvPr/>
        </p:nvSpPr>
        <p:spPr>
          <a:xfrm>
            <a:off x="220500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7" name=""/>
          <p:cNvSpPr txBox="1"/>
          <p:nvPr/>
        </p:nvSpPr>
        <p:spPr>
          <a:xfrm>
            <a:off x="40338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8" name=""/>
          <p:cNvSpPr txBox="1"/>
          <p:nvPr/>
        </p:nvSpPr>
        <p:spPr>
          <a:xfrm>
            <a:off x="44910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9" name=""/>
          <p:cNvSpPr txBox="1"/>
          <p:nvPr/>
        </p:nvSpPr>
        <p:spPr>
          <a:xfrm>
            <a:off x="49482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0" name=""/>
          <p:cNvSpPr txBox="1"/>
          <p:nvPr/>
        </p:nvSpPr>
        <p:spPr>
          <a:xfrm>
            <a:off x="147600" y="223920"/>
            <a:ext cx="191448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 in I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1" name=""/>
          <p:cNvSpPr txBox="1"/>
          <p:nvPr/>
        </p:nvSpPr>
        <p:spPr>
          <a:xfrm>
            <a:off x="5862600" y="528480"/>
            <a:ext cx="77148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2" name=""/>
          <p:cNvSpPr txBox="1"/>
          <p:nvPr/>
        </p:nvSpPr>
        <p:spPr>
          <a:xfrm>
            <a:off x="6243480" y="223920"/>
            <a:ext cx="390600" cy="314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3" name=""/>
          <p:cNvSpPr txBox="1"/>
          <p:nvPr/>
        </p:nvSpPr>
        <p:spPr>
          <a:xfrm>
            <a:off x="5862600" y="223920"/>
            <a:ext cx="39060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"/>
          <p:cNvSpPr txBox="1"/>
          <p:nvPr/>
        </p:nvSpPr>
        <p:spPr>
          <a:xfrm>
            <a:off x="540540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"/>
          <p:cNvSpPr txBox="1"/>
          <p:nvPr/>
        </p:nvSpPr>
        <p:spPr>
          <a:xfrm>
            <a:off x="6777000" y="223920"/>
            <a:ext cx="19908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crementa WZ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lva in 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6" name="" descr=""/>
          <p:cNvPicPr/>
          <p:nvPr/>
        </p:nvPicPr>
        <p:blipFill>
          <a:blip r:embed="rId1"/>
          <a:stretch/>
        </p:blipFill>
        <p:spPr>
          <a:xfrm>
            <a:off x="1206360" y="1231920"/>
            <a:ext cx="2781360" cy="4064040"/>
          </a:xfrm>
          <a:prstGeom prst="rect">
            <a:avLst/>
          </a:prstGeom>
          <a:ln w="0">
            <a:noFill/>
          </a:ln>
        </p:spPr>
      </p:pic>
      <p:pic>
        <p:nvPicPr>
          <p:cNvPr id="6547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2743200" cy="3492360"/>
          </a:xfrm>
          <a:prstGeom prst="rect">
            <a:avLst/>
          </a:prstGeom>
          <a:ln w="0">
            <a:noFill/>
          </a:ln>
        </p:spPr>
      </p:pic>
      <p:sp>
        <p:nvSpPr>
          <p:cNvPr id="6548" name=""/>
          <p:cNvSpPr txBox="1"/>
          <p:nvPr/>
        </p:nvSpPr>
        <p:spPr>
          <a:xfrm>
            <a:off x="914400" y="53352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errupt handler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9" name=""/>
          <p:cNvSpPr txBox="1"/>
          <p:nvPr/>
        </p:nvSpPr>
        <p:spPr>
          <a:xfrm>
            <a:off x="762120" y="380880"/>
            <a:ext cx="813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’assembler Z80 usa istruzioni di lunghezza totale 1,2,3,4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0" name=""/>
          <p:cNvSpPr txBox="1"/>
          <p:nvPr/>
        </p:nvSpPr>
        <p:spPr>
          <a:xfrm>
            <a:off x="1747800" y="1824120"/>
            <a:ext cx="115236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1" name=""/>
          <p:cNvSpPr txBox="1"/>
          <p:nvPr/>
        </p:nvSpPr>
        <p:spPr>
          <a:xfrm>
            <a:off x="1747800" y="2662200"/>
            <a:ext cx="115236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2" name=""/>
          <p:cNvSpPr/>
          <p:nvPr/>
        </p:nvSpPr>
        <p:spPr>
          <a:xfrm>
            <a:off x="23623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3" name=""/>
          <p:cNvSpPr/>
          <p:nvPr/>
        </p:nvSpPr>
        <p:spPr>
          <a:xfrm>
            <a:off x="236232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4" name=""/>
          <p:cNvSpPr/>
          <p:nvPr/>
        </p:nvSpPr>
        <p:spPr>
          <a:xfrm>
            <a:off x="2895480" y="2895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5" name=""/>
          <p:cNvSpPr txBox="1"/>
          <p:nvPr/>
        </p:nvSpPr>
        <p:spPr>
          <a:xfrm>
            <a:off x="3576600" y="2662200"/>
            <a:ext cx="290520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struzione: 2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6" name=""/>
          <p:cNvSpPr txBox="1"/>
          <p:nvPr/>
        </p:nvSpPr>
        <p:spPr>
          <a:xfrm>
            <a:off x="1747800" y="3500280"/>
            <a:ext cx="1152360" cy="1248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"/>
          <p:cNvSpPr txBox="1"/>
          <p:nvPr/>
        </p:nvSpPr>
        <p:spPr>
          <a:xfrm>
            <a:off x="3048120" y="2514600"/>
            <a:ext cx="420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"/>
          <p:cNvSpPr/>
          <p:nvPr/>
        </p:nvSpPr>
        <p:spPr>
          <a:xfrm>
            <a:off x="289548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"/>
          <p:cNvSpPr txBox="1"/>
          <p:nvPr/>
        </p:nvSpPr>
        <p:spPr>
          <a:xfrm>
            <a:off x="3048120" y="3733920"/>
            <a:ext cx="420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"/>
          <p:cNvSpPr txBox="1"/>
          <p:nvPr/>
        </p:nvSpPr>
        <p:spPr>
          <a:xfrm>
            <a:off x="3576600" y="3500280"/>
            <a:ext cx="3133800" cy="208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struzione: 2 by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i: 1,2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eve leggere il sec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yte per definire i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 quindi lunghezza to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1" name=""/>
          <p:cNvSpPr txBox="1"/>
          <p:nvPr/>
        </p:nvSpPr>
        <p:spPr>
          <a:xfrm>
            <a:off x="2438280" y="3124080"/>
            <a:ext cx="533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2" name=""/>
          <p:cNvSpPr txBox="1"/>
          <p:nvPr/>
        </p:nvSpPr>
        <p:spPr>
          <a:xfrm>
            <a:off x="2438280" y="4724280"/>
            <a:ext cx="533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3" name=""/>
          <p:cNvSpPr/>
          <p:nvPr/>
        </p:nvSpPr>
        <p:spPr>
          <a:xfrm>
            <a:off x="236232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4" name=""/>
          <p:cNvSpPr txBox="1"/>
          <p:nvPr/>
        </p:nvSpPr>
        <p:spPr>
          <a:xfrm>
            <a:off x="6624720" y="2662200"/>
            <a:ext cx="12286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B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5" name=""/>
          <p:cNvSpPr txBox="1"/>
          <p:nvPr/>
        </p:nvSpPr>
        <p:spPr>
          <a:xfrm>
            <a:off x="6853320" y="3500280"/>
            <a:ext cx="1990800" cy="1609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 II XX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 II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 txBox="1"/>
          <p:nvPr/>
        </p:nvSpPr>
        <p:spPr>
          <a:xfrm>
            <a:off x="4795920" y="5329080"/>
            <a:ext cx="1685880" cy="1305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 XX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 txBox="1"/>
          <p:nvPr/>
        </p:nvSpPr>
        <p:spPr>
          <a:xfrm>
            <a:off x="1747800" y="5329080"/>
            <a:ext cx="2905200" cy="173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struzione: 1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i: 1,2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ocessore sa da su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anti sono i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 txBox="1"/>
          <p:nvPr/>
        </p:nvSpPr>
        <p:spPr>
          <a:xfrm>
            <a:off x="1747800" y="985680"/>
            <a:ext cx="221940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egge primo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>
            <a:off x="236232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0" name=""/>
          <p:cNvGrpSpPr/>
          <p:nvPr/>
        </p:nvGrpSpPr>
        <p:grpSpPr>
          <a:xfrm>
            <a:off x="6553080" y="1143000"/>
            <a:ext cx="2286360" cy="1480320"/>
            <a:chOff x="6553080" y="1143000"/>
            <a:chExt cx="2286360" cy="1480320"/>
          </a:xfrm>
        </p:grpSpPr>
        <p:sp>
          <p:nvSpPr>
            <p:cNvPr id="6571" name=""/>
            <p:cNvSpPr/>
            <p:nvPr/>
          </p:nvSpPr>
          <p:spPr>
            <a:xfrm>
              <a:off x="6553080" y="1143000"/>
              <a:ext cx="2286360" cy="1143360"/>
            </a:xfrm>
            <a:custGeom>
              <a:avLst/>
              <a:gdLst/>
              <a:ahLst/>
              <a:rect l="0" t="0" r="r" b="b"/>
              <a:pathLst>
                <a:path fill="none" w="6351" h="3176">
                  <a:moveTo>
                    <a:pt x="1057" y="600"/>
                  </a:moveTo>
                  <a:lnTo>
                    <a:pt x="841" y="611"/>
                  </a:lnTo>
                  <a:lnTo>
                    <a:pt x="638" y="636"/>
                  </a:lnTo>
                  <a:lnTo>
                    <a:pt x="467" y="672"/>
                  </a:lnTo>
                  <a:lnTo>
                    <a:pt x="304" y="725"/>
                  </a:lnTo>
                  <a:lnTo>
                    <a:pt x="185" y="786"/>
                  </a:lnTo>
                  <a:lnTo>
                    <a:pt x="79" y="865"/>
                  </a:lnTo>
                  <a:lnTo>
                    <a:pt x="22" y="940"/>
                  </a:lnTo>
                  <a:lnTo>
                    <a:pt x="8" y="986"/>
                  </a:lnTo>
                  <a:lnTo>
                    <a:pt x="0" y="1026"/>
                  </a:lnTo>
                  <a:lnTo>
                    <a:pt x="0" y="1674"/>
                  </a:lnTo>
                  <a:lnTo>
                    <a:pt x="0" y="2746"/>
                  </a:lnTo>
                  <a:lnTo>
                    <a:pt x="8" y="2793"/>
                  </a:lnTo>
                  <a:lnTo>
                    <a:pt x="22" y="2832"/>
                  </a:lnTo>
                  <a:lnTo>
                    <a:pt x="79" y="2914"/>
                  </a:lnTo>
                  <a:lnTo>
                    <a:pt x="185" y="2986"/>
                  </a:lnTo>
                  <a:lnTo>
                    <a:pt x="304" y="3047"/>
                  </a:lnTo>
                  <a:lnTo>
                    <a:pt x="467" y="3104"/>
                  </a:lnTo>
                  <a:lnTo>
                    <a:pt x="638" y="3140"/>
                  </a:lnTo>
                  <a:lnTo>
                    <a:pt x="841" y="3165"/>
                  </a:lnTo>
                  <a:lnTo>
                    <a:pt x="1057" y="3176"/>
                  </a:lnTo>
                  <a:lnTo>
                    <a:pt x="2640" y="3176"/>
                  </a:lnTo>
                  <a:lnTo>
                    <a:pt x="5285" y="3176"/>
                  </a:lnTo>
                  <a:lnTo>
                    <a:pt x="5497" y="3165"/>
                  </a:lnTo>
                  <a:lnTo>
                    <a:pt x="5699" y="3140"/>
                  </a:lnTo>
                  <a:lnTo>
                    <a:pt x="5884" y="3104"/>
                  </a:lnTo>
                  <a:lnTo>
                    <a:pt x="6039" y="3047"/>
                  </a:lnTo>
                  <a:lnTo>
                    <a:pt x="6166" y="2986"/>
                  </a:lnTo>
                  <a:lnTo>
                    <a:pt x="6272" y="2914"/>
                  </a:lnTo>
                  <a:lnTo>
                    <a:pt x="6329" y="2832"/>
                  </a:lnTo>
                  <a:lnTo>
                    <a:pt x="6343" y="2793"/>
                  </a:lnTo>
                  <a:lnTo>
                    <a:pt x="6351" y="2746"/>
                  </a:lnTo>
                  <a:lnTo>
                    <a:pt x="6351" y="1674"/>
                  </a:lnTo>
                  <a:lnTo>
                    <a:pt x="6351" y="1026"/>
                  </a:lnTo>
                  <a:lnTo>
                    <a:pt x="6343" y="986"/>
                  </a:lnTo>
                  <a:lnTo>
                    <a:pt x="6329" y="940"/>
                  </a:lnTo>
                  <a:lnTo>
                    <a:pt x="6272" y="865"/>
                  </a:lnTo>
                  <a:lnTo>
                    <a:pt x="6166" y="786"/>
                  </a:lnTo>
                  <a:lnTo>
                    <a:pt x="6039" y="725"/>
                  </a:lnTo>
                  <a:lnTo>
                    <a:pt x="5884" y="672"/>
                  </a:lnTo>
                  <a:lnTo>
                    <a:pt x="5699" y="636"/>
                  </a:lnTo>
                  <a:lnTo>
                    <a:pt x="5497" y="611"/>
                  </a:lnTo>
                  <a:lnTo>
                    <a:pt x="5285" y="600"/>
                  </a:lnTo>
                  <a:lnTo>
                    <a:pt x="2640" y="600"/>
                  </a:lnTo>
                  <a:lnTo>
                    <a:pt x="8" y="0"/>
                  </a:lnTo>
                  <a:lnTo>
                    <a:pt x="1057" y="60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 txBox="1"/>
            <p:nvPr/>
          </p:nvSpPr>
          <p:spPr>
            <a:xfrm>
              <a:off x="6727680" y="1233360"/>
              <a:ext cx="1936800" cy="138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unziona un p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me il selett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el telefo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3" name=""/>
          <p:cNvGrpSpPr/>
          <p:nvPr/>
        </p:nvGrpSpPr>
        <p:grpSpPr>
          <a:xfrm>
            <a:off x="4191120" y="1600200"/>
            <a:ext cx="2210040" cy="1118880"/>
            <a:chOff x="4191120" y="1600200"/>
            <a:chExt cx="2210040" cy="1118880"/>
          </a:xfrm>
        </p:grpSpPr>
        <p:sp>
          <p:nvSpPr>
            <p:cNvPr id="6574" name=""/>
            <p:cNvSpPr/>
            <p:nvPr/>
          </p:nvSpPr>
          <p:spPr>
            <a:xfrm>
              <a:off x="4191120" y="1600200"/>
              <a:ext cx="2210040" cy="762480"/>
            </a:xfrm>
            <a:custGeom>
              <a:avLst/>
              <a:gdLst/>
              <a:ahLst/>
              <a:rect l="0" t="0" r="r" b="b"/>
              <a:pathLst>
                <a:path fill="none" w="6139" h="2118">
                  <a:moveTo>
                    <a:pt x="1022" y="0"/>
                  </a:moveTo>
                  <a:lnTo>
                    <a:pt x="815" y="6"/>
                  </a:lnTo>
                  <a:lnTo>
                    <a:pt x="630" y="19"/>
                  </a:lnTo>
                  <a:lnTo>
                    <a:pt x="453" y="43"/>
                  </a:lnTo>
                  <a:lnTo>
                    <a:pt x="304" y="79"/>
                  </a:lnTo>
                  <a:lnTo>
                    <a:pt x="176" y="115"/>
                  </a:lnTo>
                  <a:lnTo>
                    <a:pt x="79" y="162"/>
                  </a:lnTo>
                  <a:lnTo>
                    <a:pt x="17" y="208"/>
                  </a:lnTo>
                  <a:lnTo>
                    <a:pt x="8" y="238"/>
                  </a:lnTo>
                  <a:lnTo>
                    <a:pt x="0" y="264"/>
                  </a:lnTo>
                  <a:lnTo>
                    <a:pt x="0" y="928"/>
                  </a:lnTo>
                  <a:lnTo>
                    <a:pt x="0" y="1325"/>
                  </a:lnTo>
                  <a:lnTo>
                    <a:pt x="8" y="1355"/>
                  </a:lnTo>
                  <a:lnTo>
                    <a:pt x="17" y="1382"/>
                  </a:lnTo>
                  <a:lnTo>
                    <a:pt x="79" y="1428"/>
                  </a:lnTo>
                  <a:lnTo>
                    <a:pt x="176" y="1475"/>
                  </a:lnTo>
                  <a:lnTo>
                    <a:pt x="304" y="1514"/>
                  </a:lnTo>
                  <a:lnTo>
                    <a:pt x="453" y="1547"/>
                  </a:lnTo>
                  <a:lnTo>
                    <a:pt x="630" y="1571"/>
                  </a:lnTo>
                  <a:lnTo>
                    <a:pt x="815" y="1584"/>
                  </a:lnTo>
                  <a:lnTo>
                    <a:pt x="1022" y="1591"/>
                  </a:lnTo>
                  <a:lnTo>
                    <a:pt x="2053" y="2118"/>
                  </a:lnTo>
                  <a:lnTo>
                    <a:pt x="2551" y="1591"/>
                  </a:lnTo>
                  <a:lnTo>
                    <a:pt x="5108" y="1591"/>
                  </a:lnTo>
                  <a:lnTo>
                    <a:pt x="5315" y="1584"/>
                  </a:lnTo>
                  <a:lnTo>
                    <a:pt x="5509" y="1571"/>
                  </a:lnTo>
                  <a:lnTo>
                    <a:pt x="5685" y="1547"/>
                  </a:lnTo>
                  <a:lnTo>
                    <a:pt x="5835" y="1514"/>
                  </a:lnTo>
                  <a:lnTo>
                    <a:pt x="5963" y="1475"/>
                  </a:lnTo>
                  <a:lnTo>
                    <a:pt x="6060" y="1428"/>
                  </a:lnTo>
                  <a:lnTo>
                    <a:pt x="6121" y="1382"/>
                  </a:lnTo>
                  <a:lnTo>
                    <a:pt x="6130" y="1355"/>
                  </a:lnTo>
                  <a:lnTo>
                    <a:pt x="6139" y="1325"/>
                  </a:lnTo>
                  <a:lnTo>
                    <a:pt x="6139" y="928"/>
                  </a:lnTo>
                  <a:lnTo>
                    <a:pt x="6139" y="264"/>
                  </a:lnTo>
                  <a:lnTo>
                    <a:pt x="6130" y="238"/>
                  </a:lnTo>
                  <a:lnTo>
                    <a:pt x="6121" y="208"/>
                  </a:lnTo>
                  <a:lnTo>
                    <a:pt x="6060" y="162"/>
                  </a:lnTo>
                  <a:lnTo>
                    <a:pt x="5963" y="115"/>
                  </a:lnTo>
                  <a:lnTo>
                    <a:pt x="5835" y="79"/>
                  </a:lnTo>
                  <a:lnTo>
                    <a:pt x="5685" y="43"/>
                  </a:lnTo>
                  <a:lnTo>
                    <a:pt x="5509" y="19"/>
                  </a:lnTo>
                  <a:lnTo>
                    <a:pt x="5315" y="6"/>
                  </a:lnTo>
                  <a:lnTo>
                    <a:pt x="5108" y="0"/>
                  </a:lnTo>
                  <a:lnTo>
                    <a:pt x="2551" y="0"/>
                  </a:lnTo>
                  <a:lnTo>
                    <a:pt x="102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 txBox="1"/>
            <p:nvPr/>
          </p:nvSpPr>
          <p:spPr>
            <a:xfrm>
              <a:off x="4362480" y="1676520"/>
              <a:ext cx="1866960" cy="104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tate, Shif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it select, Re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6" name=""/>
          <p:cNvGrpSpPr/>
          <p:nvPr/>
        </p:nvGrpSpPr>
        <p:grpSpPr>
          <a:xfrm>
            <a:off x="152280" y="914400"/>
            <a:ext cx="1295640" cy="1835640"/>
            <a:chOff x="152280" y="914400"/>
            <a:chExt cx="1295640" cy="1835640"/>
          </a:xfrm>
        </p:grpSpPr>
        <p:sp>
          <p:nvSpPr>
            <p:cNvPr id="6577" name=""/>
            <p:cNvSpPr/>
            <p:nvPr/>
          </p:nvSpPr>
          <p:spPr>
            <a:xfrm>
              <a:off x="152280" y="914400"/>
              <a:ext cx="1295640" cy="1371960"/>
            </a:xfrm>
            <a:custGeom>
              <a:avLst/>
              <a:gdLst/>
              <a:ahLst/>
              <a:rect l="0" t="0" r="r" b="b"/>
              <a:pathLst>
                <a:path fill="none" w="3599" h="3811">
                  <a:moveTo>
                    <a:pt x="484" y="0"/>
                  </a:moveTo>
                  <a:lnTo>
                    <a:pt x="438" y="4"/>
                  </a:lnTo>
                  <a:lnTo>
                    <a:pt x="384" y="13"/>
                  </a:lnTo>
                  <a:lnTo>
                    <a:pt x="299" y="48"/>
                  </a:lnTo>
                  <a:lnTo>
                    <a:pt x="213" y="110"/>
                  </a:lnTo>
                  <a:lnTo>
                    <a:pt x="142" y="185"/>
                  </a:lnTo>
                  <a:lnTo>
                    <a:pt x="81" y="282"/>
                  </a:lnTo>
                  <a:lnTo>
                    <a:pt x="39" y="383"/>
                  </a:lnTo>
                  <a:lnTo>
                    <a:pt x="10" y="507"/>
                  </a:lnTo>
                  <a:lnTo>
                    <a:pt x="0" y="635"/>
                  </a:lnTo>
                  <a:lnTo>
                    <a:pt x="0" y="2223"/>
                  </a:lnTo>
                  <a:lnTo>
                    <a:pt x="0" y="3176"/>
                  </a:lnTo>
                  <a:lnTo>
                    <a:pt x="10" y="3303"/>
                  </a:lnTo>
                  <a:lnTo>
                    <a:pt x="39" y="3422"/>
                  </a:lnTo>
                  <a:lnTo>
                    <a:pt x="81" y="3528"/>
                  </a:lnTo>
                  <a:lnTo>
                    <a:pt x="142" y="3625"/>
                  </a:lnTo>
                  <a:lnTo>
                    <a:pt x="213" y="3700"/>
                  </a:lnTo>
                  <a:lnTo>
                    <a:pt x="299" y="3762"/>
                  </a:lnTo>
                  <a:lnTo>
                    <a:pt x="384" y="3797"/>
                  </a:lnTo>
                  <a:lnTo>
                    <a:pt x="438" y="3811"/>
                  </a:lnTo>
                  <a:lnTo>
                    <a:pt x="484" y="3811"/>
                  </a:lnTo>
                  <a:lnTo>
                    <a:pt x="1695" y="3811"/>
                  </a:lnTo>
                  <a:lnTo>
                    <a:pt x="2423" y="3811"/>
                  </a:lnTo>
                  <a:lnTo>
                    <a:pt x="2477" y="3811"/>
                  </a:lnTo>
                  <a:lnTo>
                    <a:pt x="2523" y="3797"/>
                  </a:lnTo>
                  <a:lnTo>
                    <a:pt x="2612" y="3762"/>
                  </a:lnTo>
                  <a:lnTo>
                    <a:pt x="2694" y="3700"/>
                  </a:lnTo>
                  <a:lnTo>
                    <a:pt x="2765" y="3625"/>
                  </a:lnTo>
                  <a:lnTo>
                    <a:pt x="2826" y="3528"/>
                  </a:lnTo>
                  <a:lnTo>
                    <a:pt x="2868" y="3422"/>
                  </a:lnTo>
                  <a:lnTo>
                    <a:pt x="2897" y="3303"/>
                  </a:lnTo>
                  <a:lnTo>
                    <a:pt x="2908" y="3176"/>
                  </a:lnTo>
                  <a:lnTo>
                    <a:pt x="3599" y="3162"/>
                  </a:lnTo>
                  <a:lnTo>
                    <a:pt x="2908" y="2223"/>
                  </a:lnTo>
                  <a:lnTo>
                    <a:pt x="2908" y="635"/>
                  </a:lnTo>
                  <a:lnTo>
                    <a:pt x="2897" y="507"/>
                  </a:lnTo>
                  <a:lnTo>
                    <a:pt x="2868" y="383"/>
                  </a:lnTo>
                  <a:lnTo>
                    <a:pt x="2826" y="282"/>
                  </a:lnTo>
                  <a:lnTo>
                    <a:pt x="2765" y="185"/>
                  </a:lnTo>
                  <a:lnTo>
                    <a:pt x="2694" y="110"/>
                  </a:lnTo>
                  <a:lnTo>
                    <a:pt x="2612" y="48"/>
                  </a:lnTo>
                  <a:lnTo>
                    <a:pt x="2523" y="13"/>
                  </a:lnTo>
                  <a:lnTo>
                    <a:pt x="2477" y="4"/>
                  </a:lnTo>
                  <a:lnTo>
                    <a:pt x="2423" y="0"/>
                  </a:lnTo>
                  <a:lnTo>
                    <a:pt x="169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 txBox="1"/>
            <p:nvPr/>
          </p:nvSpPr>
          <p:spPr>
            <a:xfrm>
              <a:off x="290520" y="1012680"/>
              <a:ext cx="1019160" cy="173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struzio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y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9" name=""/>
          <p:cNvGrpSpPr/>
          <p:nvPr/>
        </p:nvGrpSpPr>
        <p:grpSpPr>
          <a:xfrm>
            <a:off x="152280" y="3352680"/>
            <a:ext cx="1295640" cy="2183400"/>
            <a:chOff x="152280" y="3352680"/>
            <a:chExt cx="1295640" cy="2183400"/>
          </a:xfrm>
        </p:grpSpPr>
        <p:sp>
          <p:nvSpPr>
            <p:cNvPr id="6580" name=""/>
            <p:cNvSpPr/>
            <p:nvPr/>
          </p:nvSpPr>
          <p:spPr>
            <a:xfrm>
              <a:off x="152280" y="3352680"/>
              <a:ext cx="1295640" cy="1371960"/>
            </a:xfrm>
            <a:custGeom>
              <a:avLst/>
              <a:gdLst/>
              <a:ahLst/>
              <a:rect l="0" t="0" r="r" b="b"/>
              <a:pathLst>
                <a:path fill="none" w="3599" h="3811">
                  <a:moveTo>
                    <a:pt x="490" y="0"/>
                  </a:moveTo>
                  <a:lnTo>
                    <a:pt x="436" y="4"/>
                  </a:lnTo>
                  <a:lnTo>
                    <a:pt x="393" y="13"/>
                  </a:lnTo>
                  <a:lnTo>
                    <a:pt x="299" y="48"/>
                  </a:lnTo>
                  <a:lnTo>
                    <a:pt x="212" y="110"/>
                  </a:lnTo>
                  <a:lnTo>
                    <a:pt x="144" y="185"/>
                  </a:lnTo>
                  <a:lnTo>
                    <a:pt x="86" y="282"/>
                  </a:lnTo>
                  <a:lnTo>
                    <a:pt x="39" y="383"/>
                  </a:lnTo>
                  <a:lnTo>
                    <a:pt x="10" y="507"/>
                  </a:lnTo>
                  <a:lnTo>
                    <a:pt x="0" y="635"/>
                  </a:lnTo>
                  <a:lnTo>
                    <a:pt x="0" y="1587"/>
                  </a:lnTo>
                  <a:lnTo>
                    <a:pt x="0" y="3176"/>
                  </a:lnTo>
                  <a:lnTo>
                    <a:pt x="10" y="3303"/>
                  </a:lnTo>
                  <a:lnTo>
                    <a:pt x="39" y="3422"/>
                  </a:lnTo>
                  <a:lnTo>
                    <a:pt x="86" y="3528"/>
                  </a:lnTo>
                  <a:lnTo>
                    <a:pt x="144" y="3625"/>
                  </a:lnTo>
                  <a:lnTo>
                    <a:pt x="212" y="3700"/>
                  </a:lnTo>
                  <a:lnTo>
                    <a:pt x="299" y="3762"/>
                  </a:lnTo>
                  <a:lnTo>
                    <a:pt x="393" y="3797"/>
                  </a:lnTo>
                  <a:lnTo>
                    <a:pt x="436" y="3811"/>
                  </a:lnTo>
                  <a:lnTo>
                    <a:pt x="490" y="3811"/>
                  </a:lnTo>
                  <a:lnTo>
                    <a:pt x="1717" y="3811"/>
                  </a:lnTo>
                  <a:lnTo>
                    <a:pt x="2451" y="3811"/>
                  </a:lnTo>
                  <a:lnTo>
                    <a:pt x="2505" y="3811"/>
                  </a:lnTo>
                  <a:lnTo>
                    <a:pt x="2549" y="3797"/>
                  </a:lnTo>
                  <a:lnTo>
                    <a:pt x="2642" y="3762"/>
                  </a:lnTo>
                  <a:lnTo>
                    <a:pt x="2729" y="3700"/>
                  </a:lnTo>
                  <a:lnTo>
                    <a:pt x="2805" y="3625"/>
                  </a:lnTo>
                  <a:lnTo>
                    <a:pt x="2863" y="3528"/>
                  </a:lnTo>
                  <a:lnTo>
                    <a:pt x="2909" y="3422"/>
                  </a:lnTo>
                  <a:lnTo>
                    <a:pt x="2938" y="3303"/>
                  </a:lnTo>
                  <a:lnTo>
                    <a:pt x="2949" y="3176"/>
                  </a:lnTo>
                  <a:lnTo>
                    <a:pt x="2949" y="1587"/>
                  </a:lnTo>
                  <a:lnTo>
                    <a:pt x="3599" y="1314"/>
                  </a:lnTo>
                  <a:lnTo>
                    <a:pt x="2949" y="635"/>
                  </a:lnTo>
                  <a:lnTo>
                    <a:pt x="2938" y="507"/>
                  </a:lnTo>
                  <a:lnTo>
                    <a:pt x="2909" y="383"/>
                  </a:lnTo>
                  <a:lnTo>
                    <a:pt x="2863" y="282"/>
                  </a:lnTo>
                  <a:lnTo>
                    <a:pt x="2805" y="185"/>
                  </a:lnTo>
                  <a:lnTo>
                    <a:pt x="2729" y="110"/>
                  </a:lnTo>
                  <a:lnTo>
                    <a:pt x="2642" y="48"/>
                  </a:lnTo>
                  <a:lnTo>
                    <a:pt x="2549" y="13"/>
                  </a:lnTo>
                  <a:lnTo>
                    <a:pt x="2505" y="4"/>
                  </a:lnTo>
                  <a:lnTo>
                    <a:pt x="2451" y="0"/>
                  </a:lnTo>
                  <a:lnTo>
                    <a:pt x="171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 txBox="1"/>
            <p:nvPr/>
          </p:nvSpPr>
          <p:spPr>
            <a:xfrm>
              <a:off x="290520" y="3451320"/>
              <a:ext cx="1019160" cy="208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struzio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anno 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inest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2" name=""/>
          <p:cNvSpPr/>
          <p:nvPr/>
        </p:nvSpPr>
        <p:spPr>
          <a:xfrm flipV="1">
            <a:off x="1447920" y="289548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3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6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7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0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1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2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4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7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8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9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0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1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2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3" name=""/>
          <p:cNvSpPr/>
          <p:nvPr/>
        </p:nvSpPr>
        <p:spPr>
          <a:xfrm>
            <a:off x="2057400" y="1066680"/>
            <a:ext cx="9144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4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9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0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1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2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4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5" name=""/>
          <p:cNvSpPr/>
          <p:nvPr/>
        </p:nvSpPr>
        <p:spPr>
          <a:xfrm>
            <a:off x="281952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6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7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8" name=""/>
          <p:cNvSpPr/>
          <p:nvPr/>
        </p:nvSpPr>
        <p:spPr>
          <a:xfrm>
            <a:off x="3048120" y="4800600"/>
            <a:ext cx="304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9" name=""/>
          <p:cNvSpPr txBox="1"/>
          <p:nvPr/>
        </p:nvSpPr>
        <p:spPr>
          <a:xfrm>
            <a:off x="1600200" y="4800600"/>
            <a:ext cx="12193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0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1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2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3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6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7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8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0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1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2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3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7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8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1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2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3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4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5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6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7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8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9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0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1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3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4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8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9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0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1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2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3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4" name=""/>
          <p:cNvSpPr txBox="1"/>
          <p:nvPr/>
        </p:nvSpPr>
        <p:spPr>
          <a:xfrm>
            <a:off x="2971800" y="1066680"/>
            <a:ext cx="1752480" cy="5518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6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7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8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9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0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1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2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3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4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5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6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7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8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9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0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1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2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3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4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5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6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7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8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9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0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1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2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3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4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5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6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7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8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9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0" name=""/>
          <p:cNvSpPr/>
          <p:nvPr/>
        </p:nvSpPr>
        <p:spPr>
          <a:xfrm>
            <a:off x="1676520" y="541008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1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2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3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4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5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6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7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8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1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2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3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4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5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6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7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8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0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1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2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3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4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5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6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7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8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9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0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1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2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3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4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 txBox="1"/>
          <p:nvPr/>
        </p:nvSpPr>
        <p:spPr>
          <a:xfrm>
            <a:off x="2052720" y="528480"/>
            <a:ext cx="18381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 txBox="1"/>
          <p:nvPr/>
        </p:nvSpPr>
        <p:spPr>
          <a:xfrm>
            <a:off x="160020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ORQ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 txBox="1"/>
          <p:nvPr/>
        </p:nvSpPr>
        <p:spPr>
          <a:xfrm>
            <a:off x="4567320" y="223920"/>
            <a:ext cx="4048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engono utilizzate solo le linee A0…A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ell’ADDRESS BUS (256 dispositivi I/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8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057400" y="1066680"/>
            <a:ext cx="9144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281952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3048120" y="4800600"/>
            <a:ext cx="304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 txBox="1"/>
          <p:nvPr/>
        </p:nvSpPr>
        <p:spPr>
          <a:xfrm>
            <a:off x="1600200" y="4800600"/>
            <a:ext cx="12193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4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 txBox="1"/>
          <p:nvPr/>
        </p:nvSpPr>
        <p:spPr>
          <a:xfrm>
            <a:off x="2971800" y="1066680"/>
            <a:ext cx="1752480" cy="5518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0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1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2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3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4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5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7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9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0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2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3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4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6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8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0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2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4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6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8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9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0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2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3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4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6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8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1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3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5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6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8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1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5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6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7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8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9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0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1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2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3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4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5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8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9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0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2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3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4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5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6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7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8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9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0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1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2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3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4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5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6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7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9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0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1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2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3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6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7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8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9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0" name=""/>
          <p:cNvSpPr txBox="1"/>
          <p:nvPr/>
        </p:nvSpPr>
        <p:spPr>
          <a:xfrm>
            <a:off x="2052720" y="528480"/>
            <a:ext cx="18381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1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ORQ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2" name=""/>
          <p:cNvSpPr txBox="1"/>
          <p:nvPr/>
        </p:nvSpPr>
        <p:spPr>
          <a:xfrm>
            <a:off x="4567320" y="223920"/>
            <a:ext cx="4048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’IORQ e’ simile alla lettura della memor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 si attiva IORQ invece di 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3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4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5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6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7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8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9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0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1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2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3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4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5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7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8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9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0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1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3" name=""/>
          <p:cNvSpPr/>
          <p:nvPr/>
        </p:nvSpPr>
        <p:spPr>
          <a:xfrm>
            <a:off x="2057400" y="1066680"/>
            <a:ext cx="9144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5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6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7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8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9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0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1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2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3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4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5" name=""/>
          <p:cNvSpPr/>
          <p:nvPr/>
        </p:nvSpPr>
        <p:spPr>
          <a:xfrm>
            <a:off x="281952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6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7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8" name=""/>
          <p:cNvSpPr/>
          <p:nvPr/>
        </p:nvSpPr>
        <p:spPr>
          <a:xfrm>
            <a:off x="3048120" y="4800600"/>
            <a:ext cx="304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9" name=""/>
          <p:cNvSpPr txBox="1"/>
          <p:nvPr/>
        </p:nvSpPr>
        <p:spPr>
          <a:xfrm>
            <a:off x="1600200" y="4800600"/>
            <a:ext cx="12193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0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1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2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3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4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5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6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7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8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9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0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1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2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3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4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5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6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7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8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9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0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1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2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3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4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5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6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7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8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9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0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2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3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4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8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9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0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1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2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3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4" name=""/>
          <p:cNvSpPr txBox="1"/>
          <p:nvPr/>
        </p:nvSpPr>
        <p:spPr>
          <a:xfrm>
            <a:off x="2971800" y="1066680"/>
            <a:ext cx="1752480" cy="5518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6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7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8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9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0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1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2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3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4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5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6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7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8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9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0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1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2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3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4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5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6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7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8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9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0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1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2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3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4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5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6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7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8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9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0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1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2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3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4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5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6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7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8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9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0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1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2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3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4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5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6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7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8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9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0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1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2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3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4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5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6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7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8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9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0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1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2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3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4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5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6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7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8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0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1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2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3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4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5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6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7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8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2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3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4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5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6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7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8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9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0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1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2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3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4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5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6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9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0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1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2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3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4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5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6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7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8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9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0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1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2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3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4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5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6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7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8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9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0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1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2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3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4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5" name=""/>
          <p:cNvSpPr txBox="1"/>
          <p:nvPr/>
        </p:nvSpPr>
        <p:spPr>
          <a:xfrm>
            <a:off x="2052720" y="528480"/>
            <a:ext cx="18381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6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ORQ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7" name=""/>
          <p:cNvSpPr txBox="1"/>
          <p:nvPr/>
        </p:nvSpPr>
        <p:spPr>
          <a:xfrm>
            <a:off x="4186080" y="223920"/>
            <a:ext cx="450540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iene automaticamente inserito uno stato TW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na periferica lenta puo’ inserirne altri anc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0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1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2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3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4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5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6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7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8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9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0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1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2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3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4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5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8" name=""/>
          <p:cNvSpPr/>
          <p:nvPr/>
        </p:nvSpPr>
        <p:spPr>
          <a:xfrm>
            <a:off x="2057400" y="1066680"/>
            <a:ext cx="91440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0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"/>
          <p:cNvSpPr/>
          <p:nvPr/>
        </p:nvSpPr>
        <p:spPr>
          <a:xfrm>
            <a:off x="281952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>
            <a:off x="3048120" y="4800600"/>
            <a:ext cx="304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"/>
          <p:cNvSpPr txBox="1"/>
          <p:nvPr/>
        </p:nvSpPr>
        <p:spPr>
          <a:xfrm>
            <a:off x="1600200" y="4800600"/>
            <a:ext cx="12193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0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2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 txBox="1"/>
          <p:nvPr/>
        </p:nvSpPr>
        <p:spPr>
          <a:xfrm>
            <a:off x="2971800" y="1066680"/>
            <a:ext cx="1752480" cy="5518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1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3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4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5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6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7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8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9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0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1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2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3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4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5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6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7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8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9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0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1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2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3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4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5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6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7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9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0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1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2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3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4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5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6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7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8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9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0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1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2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3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4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5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6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7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8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9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0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1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2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3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4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5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6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7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8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9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0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1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2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3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4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7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8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9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0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2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3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5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6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7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8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9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0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1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2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3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4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5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6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7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8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9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0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1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2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3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6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7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8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9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0" name=""/>
          <p:cNvSpPr txBox="1"/>
          <p:nvPr/>
        </p:nvSpPr>
        <p:spPr>
          <a:xfrm>
            <a:off x="2052720" y="528480"/>
            <a:ext cx="18381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1" name=""/>
          <p:cNvSpPr txBox="1"/>
          <p:nvPr/>
        </p:nvSpPr>
        <p:spPr>
          <a:xfrm>
            <a:off x="4567320" y="223920"/>
            <a:ext cx="4048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lasciato WAIT la periferica sc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2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ORQ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3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4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5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6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7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8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9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0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1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2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3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4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5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6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7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8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9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0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1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2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3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4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5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6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7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8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9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0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1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2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3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4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5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6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7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8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9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1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4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6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7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8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9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0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1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2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3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4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5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6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7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8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9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0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1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2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3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4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5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6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7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8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9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0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2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3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4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5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6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7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8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0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1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4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8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9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0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1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2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3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4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5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6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7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8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9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0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1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2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3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4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5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6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7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8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9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0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1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2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3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4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5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6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7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8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9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0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1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2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3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4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5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6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7" name=""/>
          <p:cNvSpPr txBox="1"/>
          <p:nvPr/>
        </p:nvSpPr>
        <p:spPr>
          <a:xfrm>
            <a:off x="2967120" y="528480"/>
            <a:ext cx="13809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8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9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0" name=""/>
          <p:cNvSpPr txBox="1"/>
          <p:nvPr/>
        </p:nvSpPr>
        <p:spPr>
          <a:xfrm>
            <a:off x="2052720" y="528480"/>
            <a:ext cx="9237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2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3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4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5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6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7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8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9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0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1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2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4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5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6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7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8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9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0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1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2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3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6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7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8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9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0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1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2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3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4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5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6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S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7" name=""/>
          <p:cNvSpPr txBox="1"/>
          <p:nvPr/>
        </p:nvSpPr>
        <p:spPr>
          <a:xfrm>
            <a:off x="4567320" y="223920"/>
            <a:ext cx="4124160" cy="1103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na periferica molto veloce e’ meglio sc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/legga direttamente in memoria: usa BUS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8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9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0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1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2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3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4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5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6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7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8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0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1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2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3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4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5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6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7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8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9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0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1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2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3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4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5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6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7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3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4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5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6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9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0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1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2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3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4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5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6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7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8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9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0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1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2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3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4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5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6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7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8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9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0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1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2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3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4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5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6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7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8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9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0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1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2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3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4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5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6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9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0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1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2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3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4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5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6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7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8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9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0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1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4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5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6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7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8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9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0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1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2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3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4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5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6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7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8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9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0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1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2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3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4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5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6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7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8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9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0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1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2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3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4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5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6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7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8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9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0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1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2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3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4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5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6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7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8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9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0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1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3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4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5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6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7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8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9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0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1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2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3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4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5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6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7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8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9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0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1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2" name=""/>
          <p:cNvSpPr txBox="1"/>
          <p:nvPr/>
        </p:nvSpPr>
        <p:spPr>
          <a:xfrm>
            <a:off x="2967120" y="528480"/>
            <a:ext cx="13809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3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4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5" name=""/>
          <p:cNvSpPr txBox="1"/>
          <p:nvPr/>
        </p:nvSpPr>
        <p:spPr>
          <a:xfrm>
            <a:off x="205272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7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8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9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0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2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3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4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5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6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7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9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0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1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2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3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4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5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6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7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8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9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0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1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2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3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6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4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7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5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7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6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7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7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7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8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9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7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0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7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1" name=""/>
          <p:cNvSpPr txBox="1"/>
          <p:nvPr/>
        </p:nvSpPr>
        <p:spPr>
          <a:xfrm>
            <a:off x="4567320" y="223920"/>
            <a:ext cx="412416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ell’ M seguente, Mp mette alta impedenz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, ADDRESS, CONTROL. Attiva BUS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2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S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28600" y="533520"/>
            <a:ext cx="1020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D B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051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6" y="0"/>
                </a:lnTo>
                <a:lnTo>
                  <a:pt x="636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905120" y="5867280"/>
            <a:ext cx="142236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arte co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 tutte 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stru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2057400"/>
            <a:ext cx="1643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 A,(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6" y="0"/>
                </a:lnTo>
                <a:lnTo>
                  <a:pt x="636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623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339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055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627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900080" y="380520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357280" y="380520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14480" y="380520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71680" y="380520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186080" y="380520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728880" y="41101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186080" y="41101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3280" y="41101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900080" y="411012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00480" y="41101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14880" y="41101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100480" y="380520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557680" y="380520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14880" y="380520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472080" y="380520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557680" y="41101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929280" y="380520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71680" y="41101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472080" y="411012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29280" y="411012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386480" y="411012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843680" y="411012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386480" y="3805200"/>
            <a:ext cx="13809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728880" y="380520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900080" y="9097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357280" y="9097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814480" y="9097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271680" y="9097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728880" y="1214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900080" y="12142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271680" y="12142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728880" y="9097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86080" y="909720"/>
            <a:ext cx="18381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186080" y="1214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3280" y="1214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900080" y="23572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357280" y="23572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14480" y="23572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71680" y="23572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186080" y="235728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728880" y="266220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186080" y="266220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3280" y="266220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900080" y="266220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100480" y="266220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014880" y="2662200"/>
            <a:ext cx="13809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100480" y="2357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557680" y="2357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14880" y="2357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472080" y="2357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557680" y="266220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929280" y="2357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71680" y="266220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728880" y="23572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600" y="3429000"/>
            <a:ext cx="87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JP 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6" y="0"/>
                </a:lnTo>
                <a:lnTo>
                  <a:pt x="636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339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483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91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055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055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055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055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343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9343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487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487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771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205740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627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915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733920" y="6324480"/>
            <a:ext cx="84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100480" y="1214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557680" y="12142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300880" y="411012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911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6094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305920" y="350532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59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763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105520" y="6324480"/>
            <a:ext cx="84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600" y="4800600"/>
            <a:ext cx="1306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SH 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623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6" y="0"/>
                </a:lnTo>
                <a:lnTo>
                  <a:pt x="636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7339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91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055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055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771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915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00080" y="52531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357280" y="52531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814480" y="52531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271680" y="52531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186080" y="5253120"/>
            <a:ext cx="9237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728880" y="55576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86080" y="55576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643280" y="55576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900080" y="5557680"/>
            <a:ext cx="13809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100480" y="55576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014880" y="555768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100480" y="52531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557680" y="52531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14880" y="52531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472080" y="52531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557680" y="55576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929280" y="5253120"/>
            <a:ext cx="466560" cy="314280"/>
          </a:xfrm>
          <a:prstGeom prst="rect">
            <a:avLst/>
          </a:prstGeom>
          <a:solidFill>
            <a:srgbClr val="ffe5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271680" y="555768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472080" y="55576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929280" y="55576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386480" y="55576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843680" y="55576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386480" y="5253120"/>
            <a:ext cx="13809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728880" y="52531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8300880" y="55576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487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305920" y="4952880"/>
            <a:ext cx="457560" cy="152640"/>
          </a:xfrm>
          <a:custGeom>
            <a:avLst/>
            <a:gdLst/>
            <a:ahLst/>
            <a:rect l="0" t="0" r="r" b="b"/>
            <a:pathLst>
              <a:path fill="none" w="1271" h="424">
                <a:moveTo>
                  <a:pt x="0" y="0"/>
                </a:moveTo>
                <a:lnTo>
                  <a:pt x="635" y="0"/>
                </a:lnTo>
                <a:lnTo>
                  <a:pt x="635" y="424"/>
                </a:lnTo>
                <a:lnTo>
                  <a:pt x="1271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305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763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92160" y="216000"/>
            <a:ext cx="1397160" cy="650232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20960" y="216000"/>
            <a:ext cx="482760" cy="650232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92560" y="1739880"/>
            <a:ext cx="939960" cy="49784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3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4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5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7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8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9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0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1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2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3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4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5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6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7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8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9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0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1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2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3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4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5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6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7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8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9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0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1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2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3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4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5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6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7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8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9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0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1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2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3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4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5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6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7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8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9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0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1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2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3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4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5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6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7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8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9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0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1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2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3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4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5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6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7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8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9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0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1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2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3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4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5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6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7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8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9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1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2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3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4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8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9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0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1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2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3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4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5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6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7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8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9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0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1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2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3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4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5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6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8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9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0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1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2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3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4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5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6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7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8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9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0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1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2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3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5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7" name=""/>
          <p:cNvSpPr txBox="1"/>
          <p:nvPr/>
        </p:nvSpPr>
        <p:spPr>
          <a:xfrm>
            <a:off x="2967120" y="528480"/>
            <a:ext cx="13809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8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9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205272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3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4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5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6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7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8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9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0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1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2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3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4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5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6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7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8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9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0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3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4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5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6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7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8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9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0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1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6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6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5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6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6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7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0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7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1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7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2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7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4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7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5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7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6" name=""/>
          <p:cNvSpPr txBox="1"/>
          <p:nvPr/>
        </p:nvSpPr>
        <p:spPr>
          <a:xfrm>
            <a:off x="4567320" y="223920"/>
            <a:ext cx="427680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Quando la periferica ha finito rilascia BUSR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l tutto e’ detto DMA-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7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S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8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9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0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1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2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3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4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5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6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7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8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9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0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5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6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7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8" name=""/>
          <p:cNvSpPr/>
          <p:nvPr/>
        </p:nvSpPr>
        <p:spPr>
          <a:xfrm>
            <a:off x="2590920" y="106668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9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0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1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2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3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4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5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6" name=""/>
          <p:cNvSpPr/>
          <p:nvPr/>
        </p:nvSpPr>
        <p:spPr>
          <a:xfrm>
            <a:off x="2819520" y="1828800"/>
            <a:ext cx="152280" cy="30492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7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8" name=""/>
          <p:cNvSpPr/>
          <p:nvPr/>
        </p:nvSpPr>
        <p:spPr>
          <a:xfrm>
            <a:off x="2590920" y="1219320"/>
            <a:ext cx="152280" cy="1522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9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0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1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3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4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6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7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8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9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0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1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2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4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5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6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7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8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9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0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1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2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3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4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7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8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9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0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1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2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3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4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5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6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7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8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9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0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1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2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3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4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5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6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7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8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9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0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1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2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3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8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9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0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1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2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3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4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5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6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1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2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3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4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5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6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7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8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9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0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1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2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3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4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5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6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7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8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9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0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2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3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5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6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7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8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1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2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4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5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6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7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8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9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0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1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2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3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4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5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6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7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8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9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0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1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2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3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4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5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6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7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8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9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0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1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2" name=""/>
          <p:cNvSpPr txBox="1"/>
          <p:nvPr/>
        </p:nvSpPr>
        <p:spPr>
          <a:xfrm>
            <a:off x="2967120" y="528480"/>
            <a:ext cx="13809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3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4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5" name=""/>
          <p:cNvSpPr txBox="1"/>
          <p:nvPr/>
        </p:nvSpPr>
        <p:spPr>
          <a:xfrm>
            <a:off x="2052720" y="528480"/>
            <a:ext cx="9237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7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8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9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0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1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2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3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4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5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6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7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9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0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1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2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4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5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6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7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8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9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0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1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2" name=""/>
          <p:cNvSpPr/>
          <p:nvPr/>
        </p:nvSpPr>
        <p:spPr>
          <a:xfrm>
            <a:off x="2819520" y="16765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3" name=""/>
          <p:cNvSpPr/>
          <p:nvPr/>
        </p:nvSpPr>
        <p:spPr>
          <a:xfrm>
            <a:off x="2286000" y="1828800"/>
            <a:ext cx="152280" cy="3049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4" name=""/>
          <p:cNvSpPr/>
          <p:nvPr/>
        </p:nvSpPr>
        <p:spPr>
          <a:xfrm>
            <a:off x="2286000" y="2133720"/>
            <a:ext cx="152280" cy="30492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5" name=""/>
          <p:cNvSpPr/>
          <p:nvPr/>
        </p:nvSpPr>
        <p:spPr>
          <a:xfrm>
            <a:off x="2286000" y="2438280"/>
            <a:ext cx="152280" cy="30492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6" name=""/>
          <p:cNvSpPr/>
          <p:nvPr/>
        </p:nvSpPr>
        <p:spPr>
          <a:xfrm>
            <a:off x="2286000" y="2743200"/>
            <a:ext cx="152280" cy="304920"/>
          </a:xfrm>
          <a:prstGeom prst="rect">
            <a:avLst/>
          </a:prstGeom>
          <a:blipFill rotWithShape="0">
            <a:blip r:embed="rId6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7" name=""/>
          <p:cNvSpPr/>
          <p:nvPr/>
        </p:nvSpPr>
        <p:spPr>
          <a:xfrm>
            <a:off x="2286000" y="1676520"/>
            <a:ext cx="152280" cy="152280"/>
          </a:xfrm>
          <a:prstGeom prst="rect">
            <a:avLst/>
          </a:prstGeom>
          <a:blipFill rotWithShape="0">
            <a:blip r:embed="rId6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8" name=""/>
          <p:cNvSpPr txBox="1"/>
          <p:nvPr/>
        </p:nvSpPr>
        <p:spPr>
          <a:xfrm>
            <a:off x="212868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9" name=""/>
          <p:cNvSpPr/>
          <p:nvPr/>
        </p:nvSpPr>
        <p:spPr>
          <a:xfrm>
            <a:off x="2057400" y="1066680"/>
            <a:ext cx="533520" cy="152280"/>
          </a:xfrm>
          <a:prstGeom prst="rect">
            <a:avLst/>
          </a:prstGeom>
          <a:blipFill rotWithShape="0">
            <a:blip r:embed="rId6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0" name=""/>
          <p:cNvSpPr txBox="1"/>
          <p:nvPr/>
        </p:nvSpPr>
        <p:spPr>
          <a:xfrm>
            <a:off x="2743200" y="1066680"/>
            <a:ext cx="1981080" cy="551880"/>
          </a:xfrm>
          <a:prstGeom prst="rect">
            <a:avLst/>
          </a:prstGeom>
          <a:blipFill rotWithShape="0">
            <a:blip r:embed="rId6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1" name=""/>
          <p:cNvSpPr txBox="1"/>
          <p:nvPr/>
        </p:nvSpPr>
        <p:spPr>
          <a:xfrm>
            <a:off x="4567320" y="223920"/>
            <a:ext cx="4124160" cy="1103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 disattiva BUSACK, riprende controllo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 DMA lunghi, periferica deve fare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2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S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3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5880" cy="4280040"/>
          </a:xfrm>
          <a:prstGeom prst="rect">
            <a:avLst/>
          </a:prstGeom>
          <a:ln w="0">
            <a:noFill/>
          </a:ln>
        </p:spPr>
      </p:pic>
      <p:sp>
        <p:nvSpPr>
          <p:cNvPr id="8304" name=""/>
          <p:cNvSpPr txBox="1"/>
          <p:nvPr/>
        </p:nvSpPr>
        <p:spPr>
          <a:xfrm>
            <a:off x="533520" y="380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057400" y="1066680"/>
            <a:ext cx="9144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1952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8120" y="4800600"/>
            <a:ext cx="304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600200" y="4800600"/>
            <a:ext cx="121932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971800" y="1066680"/>
            <a:ext cx="1752480" cy="5518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D 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319800" y="223920"/>
            <a:ext cx="24480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 attende byte su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alzando imped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7400" y="1066680"/>
            <a:ext cx="91440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971800" y="1066680"/>
            <a:ext cx="1752480" cy="55188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 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D 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81080" y="457200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5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5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5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5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54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371600" y="4495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5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5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5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5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5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6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71600" y="4800600"/>
            <a:ext cx="609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319800" y="223920"/>
            <a:ext cx="24480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a memoria e’ lent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incremento PC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81952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048120" y="4800600"/>
            <a:ext cx="3049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1600200" y="4800600"/>
            <a:ext cx="12193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D 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8610480" y="1219320"/>
            <a:ext cx="152280" cy="3033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 BUS 8 B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8686800" y="1600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6243480" y="223920"/>
            <a:ext cx="267660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struzione da 1 byte in I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fresh memorie dinam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1411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3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D 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352680" y="99072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6396120" y="223920"/>
            <a:ext cx="229536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gistri B e C non s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comunicazione dire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1828800" y="2362320"/>
            <a:ext cx="763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286000" y="40384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848720" y="1066680"/>
            <a:ext cx="9144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352680" y="4267080"/>
            <a:ext cx="2286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72428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629400" y="1447920"/>
            <a:ext cx="15228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162920" y="1447920"/>
            <a:ext cx="1522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352680" y="18288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1905120"/>
            <a:ext cx="1522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62520" y="2209680"/>
            <a:ext cx="152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962520" y="2514600"/>
            <a:ext cx="15228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962520" y="2819520"/>
            <a:ext cx="15228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3576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357660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576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576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110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110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4110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110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8195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219320" y="1066680"/>
            <a:ext cx="152280" cy="152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3520" y="1219320"/>
            <a:ext cx="152280" cy="76212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33520" y="1066680"/>
            <a:ext cx="685800" cy="1522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4864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219320" y="1219320"/>
            <a:ext cx="152280" cy="22860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1066680"/>
            <a:ext cx="152280" cy="152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58000" y="1066680"/>
            <a:ext cx="152280" cy="1522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19520" y="1676520"/>
            <a:ext cx="152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905120" y="1066680"/>
            <a:ext cx="152280" cy="1522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819520" y="121932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352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352680" y="39625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2209680" y="4800600"/>
            <a:ext cx="11430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371600" y="1066680"/>
            <a:ext cx="533520" cy="1522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133720" y="2209680"/>
            <a:ext cx="2286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4419720"/>
            <a:ext cx="22860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819520" y="2133720"/>
            <a:ext cx="15228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819520" y="2438280"/>
            <a:ext cx="152280" cy="30492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819520" y="2743200"/>
            <a:ext cx="152280" cy="30492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243360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2433600" y="2128680"/>
            <a:ext cx="3906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243360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243360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147600" y="3805200"/>
            <a:ext cx="92376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33520" y="26668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33520" y="358128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147600" y="2890800"/>
            <a:ext cx="923760" cy="6951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147600" y="1976400"/>
            <a:ext cx="923760" cy="795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905120" y="1219320"/>
            <a:ext cx="152280" cy="6858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495680" y="4343400"/>
            <a:ext cx="22860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724280" y="1219320"/>
            <a:ext cx="152280" cy="304200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  displacement  byte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0" y="1676520"/>
            <a:ext cx="152280" cy="160020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581280" y="335268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X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486400" y="2590920"/>
            <a:ext cx="152280" cy="22860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29200" y="1219320"/>
            <a:ext cx="152280" cy="259092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7242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324480" y="1676520"/>
            <a:ext cx="152280" cy="60948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029200" y="3809880"/>
            <a:ext cx="1066680" cy="15228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324480" y="3276720"/>
            <a:ext cx="685800" cy="15228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2434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73105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77700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5329080" y="2281320"/>
            <a:ext cx="54288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186080" y="3957480"/>
            <a:ext cx="771480" cy="3906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2670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581280" y="4800600"/>
            <a:ext cx="914400" cy="551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495680" y="48006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638680" y="1066680"/>
            <a:ext cx="685800" cy="15228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86400" y="1219320"/>
            <a:ext cx="15228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324480" y="1219320"/>
            <a:ext cx="152280" cy="15228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0" y="1219320"/>
            <a:ext cx="152280" cy="15228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87692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029200" y="1066680"/>
            <a:ext cx="15228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477120" y="1066680"/>
            <a:ext cx="380880" cy="15228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010280" y="1066680"/>
            <a:ext cx="152280" cy="15228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324480" y="2590920"/>
            <a:ext cx="152280" cy="22860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181480" y="1066680"/>
            <a:ext cx="30492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2971800" y="1066680"/>
            <a:ext cx="1752480" cy="27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BUS 8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2433600" y="1366920"/>
            <a:ext cx="10764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7157880" y="98568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6014880" y="2281320"/>
            <a:ext cx="6951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em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286000" y="4343400"/>
            <a:ext cx="1522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362320" y="220968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352680" y="30481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66680" y="5791320"/>
            <a:ext cx="609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376200" y="5710320"/>
            <a:ext cx="6951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1905120" y="640080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Bu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905120" y="5791320"/>
            <a:ext cx="2057400" cy="27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905120" y="5181480"/>
            <a:ext cx="205740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962520" y="5181480"/>
            <a:ext cx="16765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5638680" y="64008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Request                             BU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5638680" y="65530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 Acknowledge                          BUS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5638680" y="55627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alt State                                H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638680" y="57150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ait                                 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5638680" y="58672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                                   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5638680" y="6019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                                  N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638680" y="617220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et                              RE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8680" y="5562720"/>
            <a:ext cx="763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5638680" y="45720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chine Cycle One                                     M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5638680" y="472428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mory Request                               M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5638680" y="48769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put / Output Request                                 IO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5638680" y="5029200"/>
            <a:ext cx="2819520" cy="128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ad                                     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5638680" y="518148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rite                                    W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5638680" y="5334120"/>
            <a:ext cx="2819520" cy="12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fresh                                RF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638680" y="4572000"/>
            <a:ext cx="763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638680" y="64008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095880" y="1447920"/>
            <a:ext cx="152280" cy="15228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571032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181480" y="4191120"/>
            <a:ext cx="228600" cy="5335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5329080" y="2814480"/>
            <a:ext cx="1380960" cy="8478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g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676520" y="518148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676520" y="579132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676520" y="5334120"/>
            <a:ext cx="228600" cy="457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76520" y="6019920"/>
            <a:ext cx="2286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676520" y="64008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3526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352680" y="36576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581280" y="3657600"/>
            <a:ext cx="6858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Y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13372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352680" y="24382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296712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2967120" y="212868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2967120" y="27385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2967120" y="243360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267080" y="3352680"/>
            <a:ext cx="22860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828800" y="1905120"/>
            <a:ext cx="76320" cy="15228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1442880" y="13669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1442880" y="18241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962520" y="579132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962520" y="6400800"/>
            <a:ext cx="1676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7157880" y="2052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7157880" y="2281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7157880" y="2509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7157880" y="27385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7157880" y="29671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7157880" y="31957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/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7157880" y="34243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7157880" y="3652920"/>
            <a:ext cx="3142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7462800" y="2052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7462800" y="2281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7462800" y="2509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7462800" y="27385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alf-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7462800" y="29671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7462800" y="31957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ity/over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7462800" y="34243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7462800" y="3652920"/>
            <a:ext cx="92376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23623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2819520" y="312408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162920" y="167652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24336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2890800" y="334800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24336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2890800" y="365292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24336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2890800" y="3957480"/>
            <a:ext cx="46656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24336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2890800" y="4262400"/>
            <a:ext cx="46656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1900080" y="3957480"/>
            <a:ext cx="390600" cy="6192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7157880" y="1824120"/>
            <a:ext cx="1228680" cy="27612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5410080" y="4191120"/>
            <a:ext cx="3048120" cy="276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DRESS BUS 16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4948200" y="4719600"/>
            <a:ext cx="619200" cy="31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352680" y="4572000"/>
            <a:ext cx="2286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7238880" y="6477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8453520" y="4033800"/>
            <a:ext cx="466560" cy="267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562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8610480" y="1219320"/>
            <a:ext cx="152640" cy="3033720"/>
            <a:chOff x="8610480" y="1219320"/>
            <a:chExt cx="152640" cy="3033720"/>
          </a:xfrm>
        </p:grpSpPr>
        <p:sp>
          <p:nvSpPr>
            <p:cNvPr id="1637" name=""/>
            <p:cNvSpPr txBox="1"/>
            <p:nvPr/>
          </p:nvSpPr>
          <p:spPr>
            <a:xfrm>
              <a:off x="8610480" y="1219320"/>
              <a:ext cx="152280" cy="3033720"/>
            </a:xfrm>
            <a:prstGeom prst="rect">
              <a:avLst/>
            </a:prstGeom>
            <a:blipFill rotWithShape="0">
              <a:blip r:embed="rId36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 BUS 8 Bi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861048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763120" y="16002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1371600" y="1447920"/>
            <a:ext cx="76320" cy="152280"/>
          </a:xfrm>
          <a:prstGeom prst="rect">
            <a:avLst/>
          </a:prstGeom>
          <a:blipFill rotWithShape="0">
            <a:blip r:embed="rId3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219320" y="1447920"/>
            <a:ext cx="152280" cy="152280"/>
          </a:xfrm>
          <a:prstGeom prst="rect">
            <a:avLst/>
          </a:prstGeom>
          <a:blipFill rotWithShape="0">
            <a:blip r:embed="rId3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1600200" y="3505320"/>
            <a:ext cx="152280" cy="762120"/>
          </a:xfrm>
          <a:prstGeom prst="rect">
            <a:avLst/>
          </a:prstGeom>
          <a:blipFill rotWithShape="0">
            <a:blip r:embed="rId3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600200" y="2895480"/>
            <a:ext cx="457200" cy="152280"/>
          </a:xfrm>
          <a:prstGeom prst="rect">
            <a:avLst/>
          </a:prstGeom>
          <a:blipFill rotWithShape="0">
            <a:blip r:embed="rId4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219320" y="1600200"/>
            <a:ext cx="152280" cy="1828800"/>
          </a:xfrm>
          <a:prstGeom prst="rect">
            <a:avLst/>
          </a:prstGeom>
          <a:blipFill rotWithShape="0">
            <a:blip r:embed="rId4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1219320" y="3429000"/>
            <a:ext cx="152280" cy="838080"/>
          </a:xfrm>
          <a:prstGeom prst="rect">
            <a:avLst/>
          </a:prstGeom>
          <a:blipFill rotWithShape="0">
            <a:blip r:embed="rId4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981080" y="32004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981080" y="342900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467480" y="4648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467480" y="4800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46748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467480" y="5105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467480" y="52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467480" y="54100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72388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7238880" y="5943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7238880" y="6095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7238880" y="6248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362320" y="251460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362320" y="2819520"/>
            <a:ext cx="76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430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573360" y="182088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430360" y="3344760"/>
            <a:ext cx="93024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71600" y="4495680"/>
            <a:ext cx="228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600200" y="2590920"/>
            <a:ext cx="152280" cy="304920"/>
          </a:xfrm>
          <a:prstGeom prst="rect">
            <a:avLst/>
          </a:prstGeom>
          <a:blipFill rotWithShape="0">
            <a:blip r:embed="rId4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1442880" y="2281320"/>
            <a:ext cx="390600" cy="314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600200" y="3048120"/>
            <a:ext cx="152280" cy="457200"/>
          </a:xfrm>
          <a:prstGeom prst="rect">
            <a:avLst/>
          </a:prstGeom>
          <a:blipFill rotWithShape="0">
            <a:blip r:embed="rId4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905120" y="1905120"/>
            <a:ext cx="152280" cy="152280"/>
          </a:xfrm>
          <a:prstGeom prst="rect">
            <a:avLst/>
          </a:prstGeom>
          <a:blipFill rotWithShape="0">
            <a:blip r:embed="rId4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905120" y="2057400"/>
            <a:ext cx="152280" cy="304920"/>
          </a:xfrm>
          <a:prstGeom prst="rect">
            <a:avLst/>
          </a:prstGeom>
          <a:blipFill rotWithShape="0">
            <a:blip r:embed="rId4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2362320"/>
            <a:ext cx="152280" cy="152280"/>
          </a:xfrm>
          <a:prstGeom prst="rect">
            <a:avLst/>
          </a:prstGeom>
          <a:blipFill rotWithShape="0">
            <a:blip r:embed="rId4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905120" y="2514600"/>
            <a:ext cx="152280" cy="380880"/>
          </a:xfrm>
          <a:prstGeom prst="rect">
            <a:avLst/>
          </a:prstGeom>
          <a:blipFill rotWithShape="0">
            <a:blip r:embed="rId4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214280" y="4262400"/>
            <a:ext cx="542880" cy="237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600200" y="4800600"/>
            <a:ext cx="3808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2057400" y="1066680"/>
            <a:ext cx="762120" cy="551880"/>
          </a:xfrm>
          <a:prstGeom prst="rect">
            <a:avLst/>
          </a:prstGeom>
          <a:blipFill rotWithShape="0">
            <a:blip r:embed="rId49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147600" y="223920"/>
            <a:ext cx="1762200" cy="61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D 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20527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25099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29671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3424320" y="223920"/>
            <a:ext cx="466560" cy="3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4338720" y="223920"/>
            <a:ext cx="9237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3881520" y="528480"/>
            <a:ext cx="466560" cy="3142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3387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7959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2052720" y="528480"/>
            <a:ext cx="1380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code 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52531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5710320" y="528480"/>
            <a:ext cx="466560" cy="31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3424320" y="52848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3881520" y="223920"/>
            <a:ext cx="4665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3352680" y="99072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6243480" y="223920"/>
            <a:ext cx="2600280" cy="827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ipelining! Comincia gi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ettura istruzione succes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116026</dc:creator>
  <dc:description/>
  <dc:language>en-US</dc:language>
  <cp:lastModifiedBy>Hi</cp:lastModifiedBy>
  <cp:revision>0</cp:revision>
  <dc:subject/>
  <dc:title>PowerPoint Presentation</dc:title>
</cp:coreProperties>
</file>